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FFBA6-7AAF-4005-8760-0E380465A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4E395-BE5B-4AB6-9A5C-C7C46E56D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48928-75D8-4E59-B863-6AF0CCABC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B5291-61A9-4931-87BC-AC272C2C9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CB629-E192-4070-918C-52AA87753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0A252-849C-45A5-895C-999F19B7A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A794C-4802-4E90-B167-B0FA382EE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4F512-92F7-45EB-A6AC-056F6E85D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5C7EF-AFF2-40A5-80B8-EB29C5445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7471D-E3EB-4220-B004-6A44CB348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34721-E568-4241-89DF-8CD62D905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7BBA0-2386-42EF-B0BA-70F40951F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91604-729B-4B4A-9641-4B5095B9E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CC124-5F58-4118-9D92-14FDA88BB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76156-B348-46B1-94D5-350D665B7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BBCC6-3239-48C2-9CF0-F076BBB21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4FDE9-2C39-426E-9940-5534ED721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5800A1-5C08-4025-9762-94493A8C78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90BFA-ACAA-41DF-AB31-2BF816728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AFED85-5397-4CDE-B139-BB96871EC5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F709E5-8AB2-4227-B1C2-E8A0C28C1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E1995-68F9-4802-AE5C-08E18B0883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C532C-FF9D-47A6-B14F-35E4DA232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D02626-0080-4A2D-A3D1-6EF9D92815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6B977-9275-4E32-BA25-021094E58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95E94-7EAD-4AF5-B35C-7D02C50D9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E2B31-EFAB-4370-8193-EEBD5E58F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795512-9B77-45F3-8537-65C4469D4A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5FA3FC-775A-40CE-BF91-3DEBC17478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7B4E0D-B71F-4CAA-88DE-9B6AE1615F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3B48EC-7FE1-4543-A620-0A6547F43C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F517D-1CAD-4979-A451-62A6BC45FC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B9FD4-C648-4501-8130-91FACB05B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37F8C-DC9D-4A20-8672-443A47279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FAA015-99E2-4137-BB5D-839138846A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133175-7206-4858-8F3E-B6542DA3DE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FE11DC-C12D-4389-AE97-3E08EFCB7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2AB33-D237-4A90-9183-15DCD23FE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185E7-CA3D-437A-A8B7-7FECD23E2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3EC1A-8AF8-4BAC-AC10-254A9BF0A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8E17B9-912E-40C5-8741-4B956B1204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A38482-EF9C-4A50-A7A2-77FCD3D467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779D40-F879-444F-B6D7-9E0397ADAE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DA6F84-2A24-4846-89F3-A7F048AA46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F034E-F3EC-4BF3-8185-C1CB17C6B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46BFF9-6D1E-4B49-AD6C-C8ACB2F7E0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0835D9-5F21-42F2-8F17-FA9694F536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05FD5E-4A4F-42BC-82CF-1D7529E998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0D129F-3302-4501-82B8-D361E7946A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39C0EF-7B6E-422B-9F43-2F4C035676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8168E6-E634-4D73-8EA5-A9F0C6804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DC332-A08F-4962-89EA-3B51B6F37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42288-47B9-4552-9D6F-69D3C900E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98F0FB-7EDE-4CF1-8920-0694F9DA55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FF79A4-559E-485E-9B69-158FEC3D7E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7CB24-8CF4-442B-9DEF-F4444D1AC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A4E6C0-FA4F-44D8-B850-0027291AF1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DF26F6-17BC-4369-904C-A170083729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07293B-D23C-40EB-BAD4-7EE42D057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D8C1DD-B8DC-46DA-8F04-FBB1866A77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45C39E-F991-40F7-A44F-F4E57B4003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D9C26E-C450-4D78-8DA2-042EF6664C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147D2-C852-48C1-8B43-82B6234586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07A1C3-BCBD-4291-9D0C-E379E54306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FEE24-0792-4098-9F09-D3C99CDCF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4E6CD9-D6FC-482D-90D6-A4090D644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68CF0-C0D0-43A4-B1C9-EA6221F06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265CEA-C31B-4552-87F5-B938CCAD4D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9262DE-CB29-4900-A3DA-304D82F62A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42F692-0FBF-4084-B260-18EEFD274A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6588FF-6296-4C36-AAA8-9E4F9E071E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7C5B80-FCB7-42E8-A5A2-73507D1AE1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0A8098-F6D0-43F8-99B2-788ECD200C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1E245E-F6E2-4D54-9CC9-56A294F08C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56EAC-FB35-4213-8B78-A03584869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673E36-7D74-4857-BAA6-EEDE8CCE30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2E9D7-0378-4473-88D7-B4F90B3A16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25FEE-FD88-4468-B5E0-62B870D5A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C9D9DA-EF8B-4FE1-BFB8-A0DBBA29E3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979249-D572-4A50-B541-1EC0186F93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3B9BA8-572F-4BF9-8963-9C573FD05C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8DEC61-C315-4547-ACBB-0BA3E26F10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A35A7A-F947-4659-9744-03D6338EF3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5D74FF-DE3A-4D96-AF79-D9ED75F681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34F6D6-C75A-4817-9C8D-69EB463806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CE3ED2-B928-46C8-8093-5DA9CAE978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93EBC0-A472-4A9A-A633-CA4DBF759E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36B4B6-A525-42E6-9325-AC048AEC0D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E2DF-8198-45E8-BA6C-7987D23B0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DF65D-2F7F-4717-9D07-F814C434E2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AD0F5-5D94-46EA-AD71-CD222511DC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3E60D0-3CC6-424E-BC69-A6D468F5F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AAFF34-3D6F-4043-AD07-0A0357C06C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3962A9-BDB6-43A0-8BBE-C30D31B528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636F0A-20D9-4076-8D72-E9CCA7D398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4649DB-1C55-4C4E-82FA-33A2BCC6F9C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A7B0-F707-4E7B-947D-145D542EEFEA}"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مستطيل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مستطيل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7009-5866-43B9-98DA-DBB0F01FBF41}"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مستطيل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8467-4D05-4701-8964-DF33B7A08E9E}" type="slidenum">
              <a:rPr b="0" lang="ar-SA"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ثلث متساوي الساقين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12A6-FD0E-4E5A-8BE0-0747C400C9B6}"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6CB0-103F-4951-B5E2-C4720C4CFC3B}"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رابط مستقيم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مثلث متساوي الساقين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F2D6-CB42-41D1-A80E-3AEEEAB047F9}"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مستطيل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4FB5-6189-4DCB-8F24-BC52FF9651ED}" type="slidenum">
              <a:rPr b="0" lang="ar-SA"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رابط مستقيم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69DA-7BEA-4C3B-9D2E-41163163007B}"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الفصل الخامس</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8960" y="2895480"/>
            <a:ext cx="6148440" cy="274320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Bookman Old Style"/>
                <a:cs typeface="Times New Roman"/>
              </a:rPr>
              <a:t>وسائل جمع المعلومات في الارشاد النفسي</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90360" y="609480"/>
            <a:ext cx="7476840" cy="60984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393958"/>
                </a:solidFill>
                <a:latin typeface="Bookman Old Style"/>
              </a:rPr>
              <a:t> تابع – انواع المقابلة</a:t>
            </a:r>
            <a:endParaRPr b="0" lang="en-US" sz="3200" spc="-1" strike="noStrike">
              <a:solidFill>
                <a:srgbClr val="464653"/>
              </a:solidFill>
              <a:latin typeface="Bookman Old Style"/>
            </a:endParaRPr>
          </a:p>
        </p:txBody>
      </p:sp>
      <p:sp>
        <p:nvSpPr>
          <p:cNvPr id="371" name=""/>
          <p:cNvSpPr txBox="1"/>
          <p:nvPr/>
        </p:nvSpPr>
        <p:spPr>
          <a:xfrm>
            <a:off x="263160" y="1676520"/>
            <a:ext cx="8651880" cy="487656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وتقسم المقابلة حسب </a:t>
            </a:r>
            <a:r>
              <a:rPr b="0" lang="ar-SA" sz="2800" spc="-1" strike="noStrike" u="sng">
                <a:solidFill>
                  <a:srgbClr val="ff0000"/>
                </a:solidFill>
                <a:uFillTx/>
                <a:latin typeface="Gill Sans MT"/>
              </a:rPr>
              <a:t>هدفها</a:t>
            </a:r>
            <a:r>
              <a:rPr b="0" lang="ar-SA" sz="2800" spc="-1" strike="noStrike">
                <a:solidFill>
                  <a:srgbClr val="ff0000"/>
                </a:solidFill>
                <a:latin typeface="Gill Sans MT"/>
              </a:rPr>
              <a:t> إلى أنواع منها : </a:t>
            </a:r>
            <a:endParaRPr b="0" lang="en-US" sz="28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مقابلة المعلومات : </a:t>
            </a:r>
            <a:r>
              <a:rPr b="0" lang="ar-SA" sz="2800" spc="-1" strike="noStrike">
                <a:solidFill>
                  <a:srgbClr val="000000"/>
                </a:solidFill>
                <a:latin typeface="Gill Sans MT"/>
              </a:rPr>
              <a:t>وتكون بهدف جمع معلومات جديدة أو التوسع في معلومات أو التأكد من معلومات سبق جمعها بوسائل أخرى . </a:t>
            </a:r>
            <a:endParaRPr b="0" lang="en-US" sz="28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مقابلة الإرشادية أو العلاجية ( الكلينكية ) : </a:t>
            </a:r>
            <a:r>
              <a:rPr b="0" lang="ar-SA" sz="2800" spc="-1" strike="noStrike">
                <a:solidFill>
                  <a:srgbClr val="000000"/>
                </a:solidFill>
                <a:latin typeface="Gill Sans MT"/>
              </a:rPr>
              <a:t>وتكون بهدف تعديل أو تغيير وتوجيه السلوك لصالح العميل . وهي تستغرق وقتاً طويلاً وتهدف إلى تحقيق أهداف الإرشاد والعلاج النفسي.</a:t>
            </a:r>
            <a:endParaRPr b="0" lang="en-US" sz="28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مقابلة الشخصية : </a:t>
            </a:r>
            <a:r>
              <a:rPr b="0" lang="ar-SA" sz="2800" spc="-1" strike="noStrike">
                <a:solidFill>
                  <a:srgbClr val="000000"/>
                </a:solidFill>
                <a:latin typeface="Gill Sans MT"/>
              </a:rPr>
              <a:t>ويطلق عليها أحياناً ما قبلة التوظيف . وتكون بهدف تحديد مدى مناسبة الشخص لمهنة أو دراسه أو معهد علمي . وتدور حول خصائص الشخص ومواصفات العمل أو الدراسة أو التخصص.</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Bookman Old Style"/>
              </a:rPr>
              <a:t>عوامل نجاح المقابلة</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fontScale="98000"/>
          </a:bodyPr>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ما الشروط الخاصة لنجاح المقابلة مايلي:</a:t>
            </a:r>
            <a:endParaRPr b="0" lang="en-US" sz="2800" spc="-1" strike="noStrike">
              <a:solidFill>
                <a:srgbClr val="000000"/>
              </a:solidFill>
              <a:latin typeface="Gill Sans MT"/>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عام: </a:t>
            </a:r>
            <a:r>
              <a:rPr b="0" lang="ar-SA" sz="2800" spc="-1" strike="noStrike">
                <a:solidFill>
                  <a:srgbClr val="000000"/>
                </a:solidFill>
                <a:latin typeface="Gill Sans MT"/>
              </a:rPr>
              <a:t>يجب مراعاة السرية والأمانة، والتخطيط والتحضير والاعداد الجيد، ويتجنب المرشد النصح والامر والنهي والتفسير والايحاء راستعجال العميل او اكمال حديثه.</a:t>
            </a:r>
            <a:endParaRPr b="0" lang="en-US" sz="2800" spc="-1" strike="noStrike">
              <a:solidFill>
                <a:srgbClr val="000000"/>
              </a:solidFill>
              <a:latin typeface="Gill Sans MT"/>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جعل المقابلة وقف تعلم: </a:t>
            </a:r>
            <a:r>
              <a:rPr b="0" lang="ar-SA" sz="2800" spc="-1" strike="noStrike">
                <a:solidFill>
                  <a:srgbClr val="000000"/>
                </a:solidFill>
                <a:latin typeface="Gill Sans MT"/>
              </a:rPr>
              <a:t>ان تكون المقابلة موقف تعلم وخبرة بناءة وفرصة لزيادة فهم الذات والاستبصار لدى العميل.</a:t>
            </a:r>
            <a:endParaRPr b="0" lang="en-US" sz="2800" spc="-1" strike="noStrike">
              <a:solidFill>
                <a:srgbClr val="000000"/>
              </a:solidFill>
              <a:latin typeface="Gill Sans MT"/>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مؤهلات المرشد: </a:t>
            </a:r>
            <a:r>
              <a:rPr b="0" lang="ar-SA" sz="2800" spc="-1" strike="noStrike">
                <a:solidFill>
                  <a:srgbClr val="000000"/>
                </a:solidFill>
                <a:latin typeface="Gill Sans MT"/>
              </a:rPr>
              <a:t>وتشمل المؤهلات الشخصية كسمعته الطيبة في اجراء المقابلة ويكون امينا ومخلصا ،وكذلك يشمل المظهر الشخصي و المؤهلات المهنية والذكاء الاجتماعي.</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70c0"/>
                </a:solidFill>
                <a:latin typeface="Bookman Old Style"/>
              </a:rPr>
              <a:t>إجراء المقابلة</a:t>
            </a:r>
            <a:endParaRPr b="0" lang="en-US" sz="44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fontScale="87000"/>
          </a:bodyPr>
          <a:p>
            <a:pPr marL="237240" indent="-237240" algn="r" rtl="1">
              <a:lnSpc>
                <a:spcPct val="10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00"/>
                </a:solidFill>
                <a:latin typeface="Times New Roman"/>
              </a:rPr>
              <a:t>تتم إجراء المقابلة في خطوات وعلى مراحل مرنة وهي:</a:t>
            </a:r>
            <a:endParaRPr b="0" lang="en-US" sz="2600" spc="-1" strike="noStrike">
              <a:solidFill>
                <a:srgbClr val="000000"/>
              </a:solidFill>
              <a:latin typeface="Gill Sans MT"/>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imes New Roman"/>
              </a:rPr>
              <a:t>الإعداد: </a:t>
            </a:r>
            <a:r>
              <a:rPr b="0" lang="ar-SA" sz="2600" spc="-1" strike="noStrike">
                <a:solidFill>
                  <a:srgbClr val="000000"/>
                </a:solidFill>
                <a:latin typeface="Times New Roman"/>
              </a:rPr>
              <a:t>يتضمن إعداد الخطوط العريضة والمحاور الرئيسة التي تدور حولها المقابلة وموضوعات المناقشة، واعداد الأدوات اللازمة للتسجيل</a:t>
            </a:r>
            <a:endParaRPr b="0" lang="en-US" sz="2600" spc="-1" strike="noStrike">
              <a:solidFill>
                <a:srgbClr val="000000"/>
              </a:solidFill>
              <a:latin typeface="Gill Sans MT"/>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imes New Roman"/>
              </a:rPr>
              <a:t>الزمان: </a:t>
            </a:r>
            <a:r>
              <a:rPr b="0" lang="ar-SA" sz="2600" spc="-1" strike="noStrike">
                <a:solidFill>
                  <a:srgbClr val="000000"/>
                </a:solidFill>
                <a:latin typeface="Times New Roman"/>
              </a:rPr>
              <a:t>يختلف الزمن حسب حالة العميل ومشكلته ووقت المرشد والمعلومات المطلوبة، ويتراوح بين نصف ساعة بمتوسط </a:t>
            </a:r>
            <a:r>
              <a:rPr b="0" lang="ar-SA" sz="2600" spc="-1" strike="noStrike">
                <a:solidFill>
                  <a:srgbClr val="000000"/>
                </a:solidFill>
                <a:latin typeface="Times New Roman"/>
              </a:rPr>
              <a:t>45</a:t>
            </a:r>
            <a:r>
              <a:rPr b="0" lang="ar-SA" sz="2600" spc="-1" strike="noStrike">
                <a:solidFill>
                  <a:srgbClr val="000000"/>
                </a:solidFill>
                <a:latin typeface="Times New Roman"/>
              </a:rPr>
              <a:t> دقيقة.</a:t>
            </a:r>
            <a:endParaRPr b="0" lang="en-US" sz="2600" spc="-1" strike="noStrike">
              <a:solidFill>
                <a:srgbClr val="000000"/>
              </a:solidFill>
              <a:latin typeface="Gill Sans MT"/>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وعند تحديد موعد المقابلة يفضل ان يكون في أقرب وقت.</a:t>
            </a:r>
            <a:endParaRPr b="0" lang="en-US" sz="2600" spc="-1" strike="noStrike">
              <a:solidFill>
                <a:srgbClr val="000000"/>
              </a:solidFill>
              <a:latin typeface="Gill Sans MT"/>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imes New Roman"/>
              </a:rPr>
              <a:t>المكان: </a:t>
            </a:r>
            <a:r>
              <a:rPr b="0" lang="ar-SA" sz="2600" spc="-1" strike="noStrike">
                <a:solidFill>
                  <a:srgbClr val="000000"/>
                </a:solidFill>
                <a:latin typeface="Times New Roman"/>
              </a:rPr>
              <a:t>يجب ان يكون مكان المقابلة غرفة خاصة وهادئة وخالية من المقاطعات والتدخل، وألا تكون المقابلة من وراء مكتب حتى لا يشعر العميل بسلطة المرشد وانفصاله عنه.</a:t>
            </a:r>
            <a:endParaRPr b="0" lang="en-US" sz="2600" spc="-1" strike="noStrike">
              <a:solidFill>
                <a:srgbClr val="000000"/>
              </a:solidFill>
              <a:latin typeface="Gill Sans MT"/>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imes New Roman"/>
              </a:rPr>
              <a:t>البدء: </a:t>
            </a:r>
            <a:r>
              <a:rPr b="0" lang="ar-SA" sz="2600" spc="-1" strike="noStrike">
                <a:solidFill>
                  <a:srgbClr val="000000"/>
                </a:solidFill>
                <a:latin typeface="Times New Roman"/>
              </a:rPr>
              <a:t>تبدأ المقابلة بالترحيب وحديث عام، لكي لا تكون بداية حادة قبل الدخول في الموضوع، ويستغرق حوالي ربع ساعة. ويحتاج المرشد هذا في المقابلة الاولى فقط اما باقي المقابلات فالبدء يكون بالدخول في الموضوع.</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اجراء المقابلة</a:t>
            </a:r>
            <a:endParaRPr b="0" lang="en-US" sz="3200" spc="-1" strike="noStrike">
              <a:solidFill>
                <a:srgbClr val="464653"/>
              </a:solidFill>
              <a:latin typeface="Bookman Old Style"/>
            </a:endParaRPr>
          </a:p>
        </p:txBody>
      </p:sp>
      <p:sp>
        <p:nvSpPr>
          <p:cNvPr id="377" name=""/>
          <p:cNvSpPr txBox="1"/>
          <p:nvPr/>
        </p:nvSpPr>
        <p:spPr>
          <a:xfrm>
            <a:off x="263520" y="1447920"/>
            <a:ext cx="8423280" cy="5029200"/>
          </a:xfrm>
          <a:prstGeom prst="rect">
            <a:avLst/>
          </a:prstGeom>
          <a:noFill/>
          <a:ln w="0">
            <a:noFill/>
          </a:ln>
        </p:spPr>
        <p:txBody>
          <a:bodyPr anchor="t">
            <a:normAutofit fontScale="85000"/>
          </a:bodyPr>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تكوين الألفة : </a:t>
            </a:r>
            <a:r>
              <a:rPr b="0" lang="ar-SA" sz="2800" spc="-1" strike="noStrike">
                <a:solidFill>
                  <a:srgbClr val="000000"/>
                </a:solidFill>
                <a:latin typeface="Gill Sans MT"/>
              </a:rPr>
              <a:t>تتضمن الإلفة الإحترام والفهم والإهتمام والإخلاص المتبادل والثقة المتبادلة . وهذه أمور مهمة تمهد لنجاح المقابلة. ويجب أن تستمر الإلفة طول المقابلة . ويتوقف نجاح الإلفة في الغالب على نجاح بداية المقابلة. ولضمان تكون الإلفة الإهتمام بالمشاركة الإنفعالية ، والتشجيع ، والموافقة ، والموضوعية ، وضرب الأمثلة.</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ملاحظة:</a:t>
            </a:r>
            <a:r>
              <a:rPr b="0" lang="ar-SA" sz="2800" spc="-1" strike="noStrike">
                <a:solidFill>
                  <a:srgbClr val="000000"/>
                </a:solidFill>
                <a:latin typeface="Gill Sans MT"/>
              </a:rPr>
              <a:t> ملاحظة سلوك العميل وكلامه وحركاته وتعبيرات وجهه . </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إصغاء: </a:t>
            </a:r>
            <a:r>
              <a:rPr b="0" lang="ar-SA" sz="2800" spc="-1" strike="noStrike">
                <a:solidFill>
                  <a:srgbClr val="000000"/>
                </a:solidFill>
                <a:latin typeface="Gill Sans MT"/>
              </a:rPr>
              <a:t>يكون إصغاء المرشد أكثر من كلامه. ويشترط حسن الإصغاء بعقل واع وإهتمام وتعبير عن المشاركة الإنفعالية والتعبير المناسب.</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تقبل : </a:t>
            </a:r>
            <a:r>
              <a:rPr b="0" lang="ar-SA" sz="2800" spc="-1" strike="noStrike">
                <a:solidFill>
                  <a:srgbClr val="000000"/>
                </a:solidFill>
                <a:latin typeface="Gill Sans MT"/>
              </a:rPr>
              <a:t>اي تقبل العميل ومايقوله بكل حرية وتسامح ، وليس تقبل سلوكه فالمرشد يتقبل العميل كإنسان ليس معصوماً من الخطأ ، ولكنه لا يتقبل سلوكه الخاطئ . وممايساعد على إظهار التقبل إعادة كلام العميل واستخدام ألفاظ تعبر عن التقبل والفهم .</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اجراء المقابلة</a:t>
            </a:r>
            <a:endParaRPr b="0" lang="en-US" sz="3200" spc="-1" strike="noStrike">
              <a:solidFill>
                <a:srgbClr val="464653"/>
              </a:solidFill>
              <a:latin typeface="Bookman Old Style"/>
            </a:endParaRPr>
          </a:p>
        </p:txBody>
      </p:sp>
      <p:sp>
        <p:nvSpPr>
          <p:cNvPr id="379" name=""/>
          <p:cNvSpPr txBox="1"/>
          <p:nvPr/>
        </p:nvSpPr>
        <p:spPr>
          <a:xfrm>
            <a:off x="263160" y="1447920"/>
            <a:ext cx="8575560" cy="4952880"/>
          </a:xfrm>
          <a:prstGeom prst="rect">
            <a:avLst/>
          </a:prstGeom>
          <a:noFill/>
          <a:ln w="0">
            <a:noFill/>
          </a:ln>
        </p:spPr>
        <p:txBody>
          <a:bodyPr anchor="t">
            <a:normAutofit fontScale="90000"/>
          </a:bodyPr>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توضيح : </a:t>
            </a:r>
            <a:r>
              <a:rPr b="0" lang="ar-SA" sz="2800" spc="-1" strike="noStrike">
                <a:solidFill>
                  <a:srgbClr val="000000"/>
                </a:solidFill>
                <a:latin typeface="Gill Sans MT"/>
              </a:rPr>
              <a:t>ويتضمن ذلك ربط الأفكار وتوضيحها ، وهذا يساعد على التركيز حولا الموضوع الرئيسي للمقابلة واستمرارها وإشعار العميل بإهتمام وانتباه ومتابعة المرشد. </a:t>
            </a:r>
            <a:endParaRPr b="0" lang="en-US" sz="2800" spc="-1" strike="noStrike">
              <a:solidFill>
                <a:srgbClr val="000000"/>
              </a:solidFill>
              <a:latin typeface="Gill Sans MT"/>
            </a:endParaRPr>
          </a:p>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تساؤل : </a:t>
            </a:r>
            <a:r>
              <a:rPr b="0" lang="ar-SA" sz="2800" spc="-1" strike="noStrike">
                <a:solidFill>
                  <a:srgbClr val="000000"/>
                </a:solidFill>
                <a:latin typeface="Gill Sans MT"/>
              </a:rPr>
              <a:t>يعتبر إعداد وتوجيه الأسئلة أثناء المقابلة مهارة مهمة . ويجب اختيار الأسئلة المناسبة بصيغتة مناسبة وفي الوقت المناسب . والأسئلة الجيدة هي تلك التي تهدف إلى الحصول على معلومات مطلوبة وتوجه سير المقابلة في الإطار المرسوم لتحقيق هدفها. والإعتدال والتوسط مطلوب في عدد الأسئلة ، فلا تكون قليلة فتظل جوانب كثيرة غير مطروقة ، ولا تكون كثيرة فتشتت العميل ولا تكون أقرب إلى التحقيق.</a:t>
            </a:r>
            <a:endParaRPr b="0" lang="en-US" sz="2800" spc="-1" strike="noStrike">
              <a:solidFill>
                <a:srgbClr val="000000"/>
              </a:solidFill>
              <a:latin typeface="Gill Sans MT"/>
            </a:endParaRPr>
          </a:p>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كلام : </a:t>
            </a:r>
            <a:r>
              <a:rPr b="0" lang="ar-SA" sz="2800" spc="-1" strike="noStrike">
                <a:solidFill>
                  <a:srgbClr val="000000"/>
                </a:solidFill>
                <a:latin typeface="Gill Sans MT"/>
              </a:rPr>
              <a:t>يقصد هنا كلام وحديث وتعليقات المرشد ، ويتضمن ذلك كم كلامه وكيفه . فيجب التعبير بأسلوب يفهمه العميل . وينصح بترك المجال للعميل ليتكلم أكثر مما يتكلم المرشد ، وإن إشارة المرشد إلى نفسه وإلى خبراته الشخصية تثري المقابلة وتجعل العميل يقبل أكثر على المقابلة ويقوي العلاقة الإرشادية.</a:t>
            </a:r>
            <a:endParaRPr b="0" lang="en-US" sz="2800" spc="-1" strike="noStrike">
              <a:solidFill>
                <a:srgbClr val="000000"/>
              </a:solidFill>
              <a:latin typeface="Gill Sans MT"/>
            </a:endParaRPr>
          </a:p>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5520" indent="-24552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إجراء المقابلة</a:t>
            </a:r>
            <a:endParaRPr b="0" lang="en-US" sz="3200" spc="-1" strike="noStrike">
              <a:solidFill>
                <a:srgbClr val="464653"/>
              </a:solidFill>
              <a:latin typeface="Bookman Old Style"/>
            </a:endParaRPr>
          </a:p>
        </p:txBody>
      </p:sp>
      <p:sp>
        <p:nvSpPr>
          <p:cNvPr id="381" name=""/>
          <p:cNvSpPr txBox="1"/>
          <p:nvPr/>
        </p:nvSpPr>
        <p:spPr>
          <a:xfrm>
            <a:off x="263520" y="1523520"/>
            <a:ext cx="8423280" cy="4953240"/>
          </a:xfrm>
          <a:prstGeom prst="rect">
            <a:avLst/>
          </a:prstGeom>
          <a:noFill/>
          <a:ln w="0">
            <a:noFill/>
          </a:ln>
        </p:spPr>
        <p:txBody>
          <a:bodyPr anchor="t">
            <a:normAutofit fontScale="89000"/>
          </a:bodyPr>
          <a:p>
            <a:pPr marL="242640" indent="-2426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تسجيل : </a:t>
            </a:r>
            <a:r>
              <a:rPr b="0" lang="ar-SA" sz="2800" spc="-1" strike="noStrike">
                <a:solidFill>
                  <a:srgbClr val="000000"/>
                </a:solidFill>
                <a:latin typeface="Gill Sans MT"/>
              </a:rPr>
              <a:t>من المتفق عليه ضرورة التسجيل والكتابة للرجوع إلى مايسجل وتحليله والإفادة منه فيما بعد ، حيث لا يمكن الإعتماد على الذاكرة وخاصة مع مضي الوقت. ويلجأ بعض المرشدين إلى إستخدام أجهزة تسجيل او كتابة ملاحظات فيزيد حرص العميل وامتناعه عن الكلام. ولتفادي هذه المشكلات ، تقترح جين وارترز ضرورة تعريف العميل بأهمية التسجيل واستئذانه في ذلك ، وأن تقتصر الكتابة أثناء المقابلة على الضرورى ، وإرجاء ما يمكن إرجاؤه إلى نهاية المقابلة حيث يدون بعد إنهائها مباشرة.</a:t>
            </a:r>
            <a:endParaRPr b="0" lang="en-US" sz="2800" spc="-1" strike="noStrike">
              <a:solidFill>
                <a:srgbClr val="000000"/>
              </a:solidFill>
              <a:latin typeface="Gill Sans MT"/>
            </a:endParaRPr>
          </a:p>
          <a:p>
            <a:pPr marL="242640" indent="-2426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إنهاء المقابلة: </a:t>
            </a:r>
            <a:r>
              <a:rPr b="0" lang="ar-SA" sz="2800" spc="-1" strike="noStrike">
                <a:solidFill>
                  <a:srgbClr val="000000"/>
                </a:solidFill>
                <a:latin typeface="Gill Sans MT"/>
              </a:rPr>
              <a:t>يجب أن تنتهي المقابلة عند تحقيق هدفها وأن يكون متدرجاً وليس مفاجئاً بإنتهاء الزمن أو إنتهاء وقت العمل ، مما قد يشعر العميل بالإحباط والرفض.</a:t>
            </a:r>
            <a:r>
              <a:rPr b="1" lang="ar-SA" sz="2800" spc="-1" strike="noStrike">
                <a:solidFill>
                  <a:srgbClr val="000000"/>
                </a:solidFill>
                <a:latin typeface="Gill Sans MT"/>
              </a:rPr>
              <a:t> </a:t>
            </a:r>
            <a:r>
              <a:rPr b="0" lang="ar-SA" sz="2800" spc="-1" strike="noStrike">
                <a:solidFill>
                  <a:srgbClr val="ffff00"/>
                </a:solidFill>
                <a:latin typeface="Gill Sans MT"/>
              </a:rPr>
              <a:t>ومن أساليب إنهاء المقابلة</a:t>
            </a:r>
            <a:r>
              <a:rPr b="0" lang="ar-SA" sz="2800" spc="-1" strike="noStrike">
                <a:solidFill>
                  <a:srgbClr val="000000"/>
                </a:solidFill>
                <a:latin typeface="Gill Sans MT"/>
              </a:rPr>
              <a:t> : إستعراض وتلخيص مادار فيها ،ويحسن أن يكون ذلك التلخيص على لسان العميل نفسه، والإشارة إلى موعد المقابلة القادمة.</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الملاحظة</a:t>
            </a:r>
            <a:endParaRPr b="0" lang="en-US" sz="3600" spc="-1" strike="noStrike">
              <a:solidFill>
                <a:srgbClr val="464653"/>
              </a:solidFill>
              <a:latin typeface="Bookman Old Style"/>
            </a:endParaRPr>
          </a:p>
        </p:txBody>
      </p:sp>
      <p:sp>
        <p:nvSpPr>
          <p:cNvPr id="383" name=""/>
          <p:cNvSpPr txBox="1"/>
          <p:nvPr/>
        </p:nvSpPr>
        <p:spPr>
          <a:xfrm>
            <a:off x="457200" y="1523520"/>
            <a:ext cx="8229600" cy="4953240"/>
          </a:xfrm>
          <a:prstGeom prst="rect">
            <a:avLst/>
          </a:prstGeom>
          <a:noFill/>
          <a:ln w="0">
            <a:noFill/>
          </a:ln>
        </p:spPr>
        <p:txBody>
          <a:bodyPr anchor="t">
            <a:normAutofit fontScale="90000"/>
          </a:bodyPr>
          <a:p>
            <a:pPr marL="245520" indent="-245520" algn="r" rtl="1">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245520" indent="-245520" algn="r" rtl="1">
              <a:lnSpc>
                <a:spcPct val="10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a:t>
            </a:r>
            <a:r>
              <a:rPr b="0" lang="ar-SA" sz="2800" spc="-1" strike="noStrike">
                <a:solidFill>
                  <a:srgbClr val="000000"/>
                </a:solidFill>
                <a:latin typeface="Times New Roman"/>
                <a:cs typeface="Times New Roman"/>
              </a:rPr>
              <a:t>لمقصود هنا الملاحظة العلمية المنظمة. وهي من أقدم وأكثر وسائل جمع المعلومات شيوعاً في الإرشاد النفسي ، وهي لذلك وسيلة أساسية ومهمة ومورد خصب للحصول على معلومات عن سلوك العميل.</a:t>
            </a:r>
            <a:endParaRPr b="0" lang="en-US" sz="2800" spc="-1" strike="noStrike">
              <a:solidFill>
                <a:srgbClr val="000000"/>
              </a:solidFill>
              <a:latin typeface="Gill Sans MT"/>
            </a:endParaRPr>
          </a:p>
          <a:p>
            <a:pPr marL="245520" indent="-245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imes New Roman"/>
                <a:cs typeface="Times New Roman"/>
              </a:rPr>
              <a:t>ماهي الملاحظة : </a:t>
            </a:r>
            <a:endParaRPr b="0" lang="en-US" sz="2800" spc="-1" strike="noStrike">
              <a:solidFill>
                <a:srgbClr val="000000"/>
              </a:solidFill>
              <a:latin typeface="Gill Sans MT"/>
            </a:endParaRPr>
          </a:p>
          <a:p>
            <a:pPr marL="245520" indent="-245520" algn="r" rtl="1">
              <a:lnSpc>
                <a:spcPct val="10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هي ملاحظة الوضع الحالي للعميل ، في قطاع محدد من قطاعات</a:t>
            </a:r>
            <a:r>
              <a:rPr b="0" lang="en-US" sz="2800" spc="-1" strike="noStrike">
                <a:solidFill>
                  <a:srgbClr val="000000"/>
                </a:solidFill>
                <a:latin typeface="Times New Roman"/>
              </a:rPr>
              <a:t> </a:t>
            </a:r>
            <a:r>
              <a:rPr b="0" lang="ar-SA" sz="2800" spc="-1" strike="noStrike">
                <a:solidFill>
                  <a:srgbClr val="000000"/>
                </a:solidFill>
                <a:latin typeface="Times New Roman"/>
                <a:cs typeface="Times New Roman"/>
              </a:rPr>
              <a:t>سلوكه، وتسجيل لموقف من مواقف سلوكه . وتشمل ملاحظة السلوك في مواقف الحياة اليومية الطبيعية، ومواقف التفاعل الإجتماعي بكافة أنواعها في اللعب والعمل والراحة والرحلات والحفلات، وفي مواقف الإحباط والمسؤلية الإجتماعية والقيادة والتعبة والمناسبات الإجتماعية ، بحيث يتضمن ذلك عينات سلوكية لها مغزي في حياة العميل . </a:t>
            </a:r>
            <a:endParaRPr b="0" lang="en-US" sz="2800" spc="-1" strike="noStrike">
              <a:solidFill>
                <a:srgbClr val="000000"/>
              </a:solidFill>
              <a:latin typeface="Gill Sans MT"/>
            </a:endParaRPr>
          </a:p>
          <a:p>
            <a:pPr marL="245520" indent="-245520" algn="r" rtl="1">
              <a:lnSpc>
                <a:spcPct val="6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الملاحظة</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Times New Roman"/>
              </a:rPr>
              <a:t>وتقوم الملاحظة العلمية المنظمة على ملاحظات السلوك وتسجيله في صورة لفظية لتحقيق الأهداف الآتية: </a:t>
            </a:r>
            <a:r>
              <a:rPr b="0" lang="ar-SA" sz="2800" spc="-1" strike="noStrike">
                <a:solidFill>
                  <a:srgbClr val="000000"/>
                </a:solidFill>
                <a:latin typeface="Times New Roman"/>
              </a:rPr>
              <a:t>تسجل الحقائق التي  تثبت أو تنفي فروضاً خاصة بسلوك العميل، وتسجيل التغيرات التي تحدث في سلوك العميل نتيجة للنمو، وتحديد العوامل التي تحرك العميل سلوكياً </a:t>
            </a:r>
            <a:r>
              <a:rPr b="0" lang="ar-SA" sz="2800" spc="-1" strike="noStrike">
                <a:solidFill>
                  <a:srgbClr val="000000"/>
                </a:solidFill>
                <a:latin typeface="Gill Sans MT"/>
              </a:rPr>
              <a:t>في مواقف وخبرات معينة ، ودراسة التفاعل الإجتماعي للعميل في مواقفه الطبيعية ، وتفسير السلوك الملاحظ ، وإصدار توصيات بشأن السلوك الملاحظ .</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380880"/>
            <a:ext cx="7477200" cy="68760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أنواع الملاحظة</a:t>
            </a:r>
            <a:endParaRPr b="0" lang="en-US" sz="3600" spc="-1" strike="noStrike">
              <a:solidFill>
                <a:srgbClr val="464653"/>
              </a:solidFill>
              <a:latin typeface="Bookman Old Style"/>
            </a:endParaRPr>
          </a:p>
        </p:txBody>
      </p:sp>
      <p:sp>
        <p:nvSpPr>
          <p:cNvPr id="387" name=""/>
          <p:cNvSpPr txBox="1"/>
          <p:nvPr/>
        </p:nvSpPr>
        <p:spPr>
          <a:xfrm>
            <a:off x="263160" y="1600200"/>
            <a:ext cx="8575560" cy="502920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من أنواع الملاحظة: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ملاحظة المباشرة : </a:t>
            </a:r>
            <a:r>
              <a:rPr b="0" lang="ar-SA" sz="2800" spc="-1" strike="noStrike">
                <a:solidFill>
                  <a:srgbClr val="000000"/>
                </a:solidFill>
                <a:latin typeface="Gill Sans MT"/>
              </a:rPr>
              <a:t>حيث يكون الملاحظون أمام العميل وجهاً لوجه في المواقف ذاتها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ملاحظة الغير مباشرة : </a:t>
            </a:r>
            <a:r>
              <a:rPr b="0" lang="ar-SA" sz="2800" spc="-1" strike="noStrike">
                <a:solidFill>
                  <a:srgbClr val="000000"/>
                </a:solidFill>
                <a:latin typeface="Gill Sans MT"/>
              </a:rPr>
              <a:t>مثل التي تحدث دون اتصال مباشر بين الملاحظين والعملاء ، ودون أن يدرك العملاء أنهم موضع ملاحظة . ويتم ذلك في أماكن خاصة مجهزة لذلك.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انواع الملاحظة</a:t>
            </a:r>
            <a:endParaRPr b="0" lang="en-US" sz="3200" spc="-1" strike="noStrike">
              <a:solidFill>
                <a:srgbClr val="464653"/>
              </a:solidFill>
              <a:latin typeface="Bookman Old Style"/>
            </a:endParaRPr>
          </a:p>
        </p:txBody>
      </p:sp>
      <p:sp>
        <p:nvSpPr>
          <p:cNvPr id="389" name=""/>
          <p:cNvSpPr txBox="1"/>
          <p:nvPr/>
        </p:nvSpPr>
        <p:spPr>
          <a:xfrm>
            <a:off x="263520" y="1523880"/>
            <a:ext cx="8423280" cy="502920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Gill Sans MT"/>
              </a:rPr>
              <a:t>الملاحظة العرضية أو الصدفية: </a:t>
            </a:r>
            <a:r>
              <a:rPr b="0" lang="ar-SA" sz="2400" spc="-1" strike="noStrike">
                <a:solidFill>
                  <a:srgbClr val="000000"/>
                </a:solidFill>
                <a:latin typeface="Gill Sans MT"/>
              </a:rPr>
              <a:t>وهي عفوية غير مقصودة، وتأتي بالصدفة. وتكون سطحية وغير دقيقة وغيرعملية وليس لها قيمة علمية. ومن أمثلتها الملاحظات العابرة لسلوك العميل في المدرسة أو دار العبادة. وعلى الرغم من هذا فإنها تعطي بعض المعلومات وتستثير بعض الأسئلة، مما يؤدي في بعض الأحيان إلى فهم أكثر. </a:t>
            </a: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Gill Sans MT"/>
              </a:rPr>
              <a:t>الملاحظة الدورية : </a:t>
            </a:r>
            <a:r>
              <a:rPr b="0" lang="ar-SA" sz="2400" spc="-1" strike="noStrike">
                <a:solidFill>
                  <a:srgbClr val="000000"/>
                </a:solidFill>
                <a:latin typeface="Gill Sans MT"/>
              </a:rPr>
              <a:t>وهذه تتم في فترات زمنية محددة ، وتسجل حسب تسلسلها الزمني كل صباح أو كل أسبوع أو كل شهر ... وهكذا .</a:t>
            </a: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Gill Sans MT"/>
              </a:rPr>
              <a:t>الملاحظة المقيدة </a:t>
            </a:r>
            <a:r>
              <a:rPr b="1" lang="ar-SA" sz="2400" spc="-1" strike="noStrike">
                <a:solidFill>
                  <a:srgbClr val="000000"/>
                </a:solidFill>
                <a:latin typeface="Gill Sans MT"/>
              </a:rPr>
              <a:t>:</a:t>
            </a:r>
            <a:r>
              <a:rPr b="0" lang="ar-SA" sz="2400" spc="-1" strike="noStrike">
                <a:solidFill>
                  <a:srgbClr val="000000"/>
                </a:solidFill>
                <a:latin typeface="Gill Sans MT"/>
              </a:rPr>
              <a:t> وتكون مقيدة بمجال أو موقف معين ، ومقيدة ببنود أو فقرات معينة مثل ملاحظة الأطفال في مواقف اللعب أو الإحباط أو أثناء التفاعل الإجتماعي مع الكبار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المعلومات ووسائل جمعها</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fontScale="88000"/>
          </a:bodyPr>
          <a:p>
            <a:pPr marL="240120" indent="-24012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0120" indent="-240120" algn="r" rtl="1">
              <a:lnSpc>
                <a:spcPct val="9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لومات ووسائل جمع المعلومات في الإرشاد النفسي حجر الزاوية في عملية الإرشاد . ولكن: كيف نجمع هذه المعلومات ؟ وبمعنى آخر : ما وسائل الحصول على هذه المعلومات ؟</a:t>
            </a:r>
            <a:endParaRPr b="0" lang="en-US" sz="2800" spc="-1" strike="noStrike">
              <a:solidFill>
                <a:srgbClr val="000000"/>
              </a:solidFill>
              <a:latin typeface="Gill Sans MT"/>
            </a:endParaRPr>
          </a:p>
          <a:p>
            <a:pPr marL="240120" indent="-240120" algn="r" rtl="1">
              <a:lnSpc>
                <a:spcPct val="9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ill Sans MT"/>
              </a:rPr>
              <a:t>البيانات العامة عن العميل وبيئته المباشرة </a:t>
            </a:r>
            <a:r>
              <a:rPr b="0" lang="ar-SA" sz="2800" spc="-1" strike="noStrike">
                <a:solidFill>
                  <a:srgbClr val="000000"/>
                </a:solidFill>
                <a:latin typeface="Gill Sans MT"/>
              </a:rPr>
              <a:t>: يمكن الحصول عليها عن طريق المقابلة ، ودراسة الحالة ، والسيرة الشخصية ، والسجلات .</a:t>
            </a:r>
            <a:endParaRPr b="0" lang="en-US" sz="2800" spc="-1" strike="noStrike">
              <a:solidFill>
                <a:srgbClr val="000000"/>
              </a:solidFill>
              <a:latin typeface="Gill Sans MT"/>
            </a:endParaRPr>
          </a:p>
          <a:p>
            <a:pPr marL="240120" indent="-240120" algn="r" rtl="1">
              <a:lnSpc>
                <a:spcPct val="9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ill Sans MT"/>
              </a:rPr>
              <a:t>وأما عن شخصية العميل وأبعادها وسماتها ، وتوافقها واضطرابها ، وبنائها دينامياً ووظيفياً ( جسمياً وعقلياً واجتماعياً وانفعالياً ) </a:t>
            </a:r>
            <a:r>
              <a:rPr b="0" lang="ar-SA" sz="2800" spc="-1" strike="noStrike">
                <a:solidFill>
                  <a:srgbClr val="000000"/>
                </a:solidFill>
                <a:latin typeface="Gill Sans MT"/>
              </a:rPr>
              <a:t>يمكن الحصول عليها عن طريق الملاحظة ، والمقابلة ، ودراسة الحالة ، والإختبارات والمقاييس ، والفحوص والبحوث النفسية والطبية والعصبية والإجتماعية والتقارير والسيرة الشخصية ، والسجلات ومصادر المجتمع .</a:t>
            </a:r>
            <a:endParaRPr b="0" lang="en-US" sz="2800" spc="-1" strike="noStrike">
              <a:solidFill>
                <a:srgbClr val="000000"/>
              </a:solidFill>
              <a:latin typeface="Gill Sans MT"/>
            </a:endParaRPr>
          </a:p>
          <a:p>
            <a:pPr marL="240120" indent="-240120" algn="r" rtl="1">
              <a:lnSpc>
                <a:spcPct val="9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Bookman Old Style"/>
              </a:rPr>
              <a:t>عوامل نجاح الملاحظة </a:t>
            </a:r>
            <a:endParaRPr b="0" lang="en-US" sz="36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fontScale="85000"/>
          </a:bodyPr>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للملاحظة شروط يجب مراعاتها ضماناً لنجاحها وضماناً لفائدة المعلومات التي نحصل عليها عن طريقها . ومن هذه الشروط مايلي : </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عام : </a:t>
            </a:r>
            <a:r>
              <a:rPr b="0" lang="ar-SA" sz="2800" spc="-1" strike="noStrike">
                <a:solidFill>
                  <a:srgbClr val="000000"/>
                </a:solidFill>
                <a:latin typeface="Gill Sans MT"/>
              </a:rPr>
              <a:t>سرية المعلومات التي يتم الحصول عليها منها، والموضوعية والبعد عن الذاتية والآراء الشخصية، والدقة في إجراء الملاحظة وفي تفسير السلوك، كذلك يحتاج نجاح الملاحظة إلى خبرة وتدريب في دراسة وملاحظة السلوك البشري . </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شمول: </a:t>
            </a:r>
            <a:r>
              <a:rPr b="0" lang="ar-SA" sz="2800" spc="-1" strike="noStrike">
                <a:solidFill>
                  <a:srgbClr val="000000"/>
                </a:solidFill>
                <a:latin typeface="Gill Sans MT"/>
              </a:rPr>
              <a:t>ويتضمن ذلك الشمول الملاحظة لعينات متنوعة من سلوك العميل توضح تفاصيل إيجابيات السلوك وسلبياته، ونقاط القوة مع نقاط الضعف، بما يغطي الجوانب المختلفة لشخصية العميل .</a:t>
            </a:r>
            <a:endParaRPr b="0" lang="en-US" sz="28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إنتقاء: </a:t>
            </a:r>
            <a:r>
              <a:rPr b="0" lang="ar-SA" sz="2800" spc="-1" strike="noStrike">
                <a:solidFill>
                  <a:srgbClr val="000000"/>
                </a:solidFill>
                <a:latin typeface="Gill Sans MT"/>
              </a:rPr>
              <a:t>ويقصد بذلك انتقاء السلوك المتكرر أو الثابت نسبياً ، والإهتمام بملاحظته وتمييزه عن السلوك العارض أو الصدفي أو الطارئ.</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Bookman Old Style"/>
              </a:rPr>
              <a:t>إجراء الملاحظة </a:t>
            </a:r>
            <a:endParaRPr b="0" lang="en-US" sz="3600" spc="-1" strike="noStrike">
              <a:solidFill>
                <a:srgbClr val="464653"/>
              </a:solidFill>
              <a:latin typeface="Bookman Old Style"/>
            </a:endParaRPr>
          </a:p>
        </p:txBody>
      </p:sp>
      <p:sp>
        <p:nvSpPr>
          <p:cNvPr id="393" name=""/>
          <p:cNvSpPr txBox="1"/>
          <p:nvPr/>
        </p:nvSpPr>
        <p:spPr>
          <a:xfrm>
            <a:off x="457200" y="1645920"/>
            <a:ext cx="8229600" cy="4754520"/>
          </a:xfrm>
          <a:prstGeom prst="rect">
            <a:avLst/>
          </a:prstGeom>
          <a:noFill/>
          <a:ln w="0">
            <a:noFill/>
          </a:ln>
        </p:spPr>
        <p:txBody>
          <a:bodyPr anchor="t">
            <a:normAutofit fontScale="93000"/>
          </a:bodyPr>
          <a:p>
            <a:pPr marL="253440" indent="-25344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r>
              <a:rPr b="0" lang="ar-SA" sz="2800" spc="-1" strike="noStrike">
                <a:solidFill>
                  <a:srgbClr val="ff0000"/>
                </a:solidFill>
                <a:latin typeface="Gill Sans MT"/>
              </a:rPr>
              <a:t>يتم إجراء الملاحظة في خطوات أبرزها مايلي : </a:t>
            </a:r>
            <a:endParaRPr b="0" lang="en-US" sz="2800" spc="-1" strike="noStrike">
              <a:solidFill>
                <a:srgbClr val="000000"/>
              </a:solidFill>
              <a:latin typeface="Gill Sans MT"/>
            </a:endParaRPr>
          </a:p>
          <a:p>
            <a:pPr marL="253440" indent="-2534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إعداد: </a:t>
            </a:r>
            <a:r>
              <a:rPr b="0" lang="ar-SA" sz="2800" spc="-1" strike="noStrike">
                <a:solidFill>
                  <a:srgbClr val="000000"/>
                </a:solidFill>
                <a:latin typeface="Gill Sans MT"/>
              </a:rPr>
              <a:t>ويتضمن ذلك التخطيط المحكم لها ، والتحديد المسبق للسلوك الذي سوف يلاحظ وأبعاده ، وهدف الملاحظة بصفة عامة . ويتضمن الإعداد كذلك تجهيز الأدوات اللازمة للتسجيل </a:t>
            </a:r>
            <a:r>
              <a:rPr b="0" lang="en-US" sz="2800" spc="-1" strike="noStrike">
                <a:solidFill>
                  <a:srgbClr val="000000"/>
                </a:solidFill>
                <a:latin typeface="Gill Sans MT"/>
                <a:ea typeface="Times New Roman"/>
              </a:rPr>
              <a:t>.</a:t>
            </a:r>
            <a:endParaRPr b="0" lang="en-US" sz="2800" spc="-1" strike="noStrike">
              <a:solidFill>
                <a:srgbClr val="000000"/>
              </a:solidFill>
              <a:latin typeface="Gill Sans MT"/>
            </a:endParaRPr>
          </a:p>
          <a:p>
            <a:pPr marL="253440" indent="-2534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زمان: </a:t>
            </a:r>
            <a:r>
              <a:rPr b="0" lang="ar-SA" sz="2800" spc="-1" strike="noStrike">
                <a:solidFill>
                  <a:srgbClr val="000000"/>
                </a:solidFill>
                <a:latin typeface="Gill Sans MT"/>
              </a:rPr>
              <a:t>يحدد الزمان الذي  سوف يتم فيه إجراء الملاحظة.</a:t>
            </a:r>
            <a:endParaRPr b="0" lang="en-US" sz="2800" spc="-1" strike="noStrike">
              <a:solidFill>
                <a:srgbClr val="000000"/>
              </a:solidFill>
              <a:latin typeface="Gill Sans MT"/>
            </a:endParaRPr>
          </a:p>
          <a:p>
            <a:pPr marL="253440" indent="-2534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Gill Sans MT"/>
              </a:rPr>
              <a:t>المكان: </a:t>
            </a:r>
            <a:r>
              <a:rPr b="0" lang="ar-SA" sz="2800" spc="-1" strike="noStrike">
                <a:solidFill>
                  <a:srgbClr val="000000"/>
                </a:solidFill>
                <a:latin typeface="Gill Sans MT"/>
              </a:rPr>
              <a:t>قد تتم الملاحظة في غرف خاصة مجهزة بالأجهزة والمعدات اللازمة والأدوات والأثاث اللازم، تستخدم آلات التصوير العادي والسينمائي والدوائر التلفزيونية المغلقة. وتتم الملاحظة في غرف تمكن من متابعة وملاحظة السلوك من أعلى ومن كل الجوانب . وتستخدم كذلك غرف بها حجاب الرؤية من جانب واحد حيث يرى الملاحظون العملاء دون أن يراهم العملاء وذلك بقصد ضمان عدم إحراج العملاء ، وحتى يكون السلوك تلقائياً غير مصطنع ،كما تتم الملاحظة في مكان حدوث السلوك كالفصل أو...... </a:t>
            </a:r>
            <a:endParaRPr b="0" lang="en-US" sz="2800" spc="-1" strike="noStrike">
              <a:solidFill>
                <a:srgbClr val="000000"/>
              </a:solidFill>
              <a:latin typeface="Gill Sans MT"/>
            </a:endParaRPr>
          </a:p>
          <a:p>
            <a:pPr marL="253440" indent="-2534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3440" indent="-2534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609480"/>
            <a:ext cx="7238880" cy="68760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اجراء الملاحظة</a:t>
            </a:r>
            <a:endParaRPr b="0" lang="en-US" sz="3600" spc="-1" strike="noStrike">
              <a:solidFill>
                <a:srgbClr val="464653"/>
              </a:solidFill>
              <a:latin typeface="Bookman Old Style"/>
            </a:endParaRPr>
          </a:p>
        </p:txBody>
      </p:sp>
      <p:sp>
        <p:nvSpPr>
          <p:cNvPr id="395" name=""/>
          <p:cNvSpPr txBox="1"/>
          <p:nvPr/>
        </p:nvSpPr>
        <p:spPr>
          <a:xfrm>
            <a:off x="380880" y="1599840"/>
            <a:ext cx="8423280" cy="441972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Gill Sans MT"/>
              </a:rPr>
              <a:t>إعداد دليل الملاحظة </a:t>
            </a:r>
            <a:r>
              <a:rPr b="0" lang="ar-SA" sz="2400" spc="-1" strike="noStrike">
                <a:solidFill>
                  <a:srgbClr val="000000"/>
                </a:solidFill>
                <a:latin typeface="Gill Sans MT"/>
              </a:rPr>
              <a:t>: ويفيد دليل الملاحظة في تحديد عينات السلوك التي تلاحظ . ويستخدم كذلك قائمة مراجعة كدليل يشمل الموضوعات الملاحظة الهامة.</a:t>
            </a:r>
            <a:endParaRPr b="0" lang="en-US" sz="24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Gill Sans MT"/>
              </a:rPr>
              <a:t>اختيار عينات سلوكية ممثلة للملاحظة </a:t>
            </a:r>
            <a:r>
              <a:rPr b="0" lang="ar-SA" sz="2400" spc="-1" strike="noStrike">
                <a:solidFill>
                  <a:srgbClr val="ffff00"/>
                </a:solidFill>
                <a:latin typeface="Gill Sans MT"/>
              </a:rPr>
              <a:t>: </a:t>
            </a:r>
            <a:r>
              <a:rPr b="0" lang="ar-SA" sz="2400" spc="-1" strike="noStrike">
                <a:solidFill>
                  <a:srgbClr val="000000"/>
                </a:solidFill>
                <a:latin typeface="Gill Sans MT"/>
              </a:rPr>
              <a:t>يجب إختيار عينات متنوعة ومتعددة وشاملة وممثلة لأكبر عدد من مواقف الحياة المختلفة في أوقات مختلفة وفي مناسبات مختلفة وفي مواقف فردية ومواقف جماعية ، بحيث تعطي صورة متكاملة وواضحة لسلوك العميل . ويجب مراعاة انتقاء عينات السلوك ذات الدلالة والتي تؤدي إلى عطاء صورة أوضح لشخصية العميل . كذلك يجب الإهتمام بتكامل الموقف بحيث يكون السلوك الملاحظ موقفاً له بداية ونهاية محدودتان .</a:t>
            </a: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685440"/>
            <a:ext cx="7477200" cy="68724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اجراء الملاحظة</a:t>
            </a:r>
            <a:endParaRPr b="0" lang="en-US" sz="36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noFill/>
          <a:ln w="0">
            <a:noFill/>
          </a:ln>
        </p:spPr>
        <p:txBody>
          <a:bodyPr anchor="t">
            <a:normAutofit fontScale="92000"/>
          </a:bodyPr>
          <a:p>
            <a:pPr marL="250920" indent="-2509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ill Sans MT"/>
              </a:rPr>
              <a:t>عملية الملاحظة: </a:t>
            </a:r>
            <a:r>
              <a:rPr b="0" lang="ar-SA" sz="2400" spc="-1" strike="noStrike">
                <a:solidFill>
                  <a:srgbClr val="000000"/>
                </a:solidFill>
                <a:latin typeface="Gill Sans MT"/>
              </a:rPr>
              <a:t>تجري عملية الملاحظة بحيث يتم ملاحظة عميل واحد في الوقت الواحد. وفي حالة ملاحظة سلوك الجماعة يحسن استخدام الأفلام والشرائط التسجيلية . ويحسن تعدد الملاحظين ضماناً للموضوعية والدقة مع اتفاقهم جميعاً على السلوك الذي يلاحظ ومعاني السمات السلوكية التي تلاحظ ، حتى إذا أغفل أحدهم أمراً لم يغفله غيره ، على أن يكتفي بالقدر من المعلومات الذي يكون موضع اتفاق بين الملاحظين . ويبدأ أسلوب ملاحظة السلوك بعد تكرار حدوث السلوك غير السوي لكي يحدد تكراره القاعدي وهذا يتضمن تقدير الأحداث المثيرة السابقة واللاحقة والظروف الخاصة التي ترتبط بحدوث مثل هذا السلوك . </a:t>
            </a:r>
            <a:r>
              <a:rPr b="0" lang="ar-SA" sz="2400" spc="-1" strike="noStrike">
                <a:solidFill>
                  <a:srgbClr val="0070c0"/>
                </a:solidFill>
                <a:latin typeface="Gill Sans MT"/>
              </a:rPr>
              <a:t>ويتم تحديد التكرار القاعدي قبل أي تدخل من أي نوع .</a:t>
            </a:r>
            <a:r>
              <a:rPr b="0" lang="en-US" sz="2400" spc="-1" strike="noStrike">
                <a:solidFill>
                  <a:srgbClr val="0070c0"/>
                </a:solidFill>
                <a:latin typeface="Gill Sans MT"/>
                <a:ea typeface="Times New Roman"/>
              </a:rPr>
              <a:t> </a:t>
            </a:r>
            <a:r>
              <a:rPr b="0" lang="ar-SA" sz="2400" spc="-1" strike="noStrike">
                <a:solidFill>
                  <a:srgbClr val="0070c0"/>
                </a:solidFill>
                <a:latin typeface="Gill Sans MT"/>
              </a:rPr>
              <a:t>وهنا يحدد التشخيص . وبعد ذلك تتم عملية التدخل بتقديم برنامج إرشادي ( أو علاجي ). وبعد ذلك تحدث عملية ملاحظة ومتابعة مستمرة منظمة لتقرير مدى تأثير التدخل الإرشادي أو العلاجي في تغيير تكرار حدوث السلوك غير السوي بمقارنته بحد التكرار القاعدي. فإذا أوضحت سجلات الملاحظة أن برنامج الإرشاد كان مؤثراً ( أي قلل تكرار حدوث السلوك غير السوي ) ، فإن البرنامج يستمر ، أما إذا أظهرت السجلات أن البرنامج كان غير مؤثر فيجب تعديله على الفور . </a:t>
            </a:r>
            <a:endParaRPr b="0" lang="en-US" sz="2400" spc="-1" strike="noStrike">
              <a:solidFill>
                <a:srgbClr val="000000"/>
              </a:solidFill>
              <a:latin typeface="Gill Sans MT"/>
            </a:endParaRPr>
          </a:p>
          <a:p>
            <a:pPr marL="250920" indent="-2509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اجراء الملاحظة</a:t>
            </a:r>
            <a:endParaRPr b="0" lang="en-US"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ill Sans MT"/>
              </a:rPr>
              <a:t>التسجيل: </a:t>
            </a:r>
            <a:r>
              <a:rPr b="0" lang="ar-SA" sz="2400" spc="-1" strike="noStrike">
                <a:solidFill>
                  <a:srgbClr val="000000"/>
                </a:solidFill>
                <a:latin typeface="Gill Sans MT"/>
              </a:rPr>
              <a:t>يجب أن تسجل الملاحظة. ويجب التعود على الملاحظة بدون الحاجة الماسة إلى الكتابة أثناءها، وتذكر السلوك الهام، ثم الإسراع بتسجيل وتلخيص الملاحظة بعد إتمامها مباشرة، بحيث تكون الملاحظات محدودة ومركزة . كذلك يجب الإهتمام بتسجيل بعض النصوص كلما أمكن ذلك مما يجعل تسجيل الملاحظة حياً. ويجب أيضاً تسجيل تاريخ كل ملاحظة ومكانها وزمانها وأسماء من قاموا بها. .</a:t>
            </a: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ill Sans MT"/>
              </a:rPr>
              <a:t>التفسير: </a:t>
            </a:r>
            <a:r>
              <a:rPr b="0" lang="ar-SA" sz="2400" spc="-1" strike="noStrike">
                <a:solidFill>
                  <a:srgbClr val="000000"/>
                </a:solidFill>
                <a:latin typeface="Gill Sans MT"/>
              </a:rPr>
              <a:t>بعد التسجيل يتم تفسير السلوك الملاحظ . ويجب أن يكون التفسير في ضوء الخلفية الثقافية والتربوية والإجتماعية والإقتصادية للعميل ومجموع خبراته السابقة التي يجب البحث عنها بوسائل جمع المعلومات الأخرى . كذلك يجب أن يكون التفسير في ضوء الإطار المرجعي للعميل نفسه .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90360" y="456840"/>
            <a:ext cx="7476840" cy="83988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دراسة الحالة</a:t>
            </a:r>
            <a:endParaRPr b="0" lang="en-US" sz="3200" spc="-1" strike="noStrike">
              <a:solidFill>
                <a:srgbClr val="464653"/>
              </a:solidFill>
              <a:latin typeface="Bookman Old Style"/>
            </a:endParaRPr>
          </a:p>
        </p:txBody>
      </p:sp>
      <p:sp>
        <p:nvSpPr>
          <p:cNvPr id="401" name=""/>
          <p:cNvSpPr txBox="1"/>
          <p:nvPr/>
        </p:nvSpPr>
        <p:spPr>
          <a:xfrm>
            <a:off x="263520" y="1676520"/>
            <a:ext cx="8499600" cy="4572000"/>
          </a:xfrm>
          <a:prstGeom prst="rect">
            <a:avLst/>
          </a:prstGeom>
          <a:noFill/>
          <a:ln w="0">
            <a:noFill/>
          </a:ln>
        </p:spPr>
        <p:txBody>
          <a:bodyPr anchor="t">
            <a:normAutofit fontScale="91000"/>
          </a:bodyPr>
          <a:p>
            <a:pPr marL="248040" indent="-2480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راسة الحالة وسيلة شائعة الاستخدام بتخليص أكبر عدد ممكن من المعلومات عن العميل. وهي أكثر الوسائل شمولاً وتحليلاً . </a:t>
            </a:r>
            <a:endParaRPr b="0" lang="en-US" sz="2800" spc="-1" strike="noStrike">
              <a:solidFill>
                <a:srgbClr val="000000"/>
              </a:solidFill>
              <a:latin typeface="Gill Sans MT"/>
            </a:endParaRPr>
          </a:p>
          <a:p>
            <a:pPr marL="248040" indent="-2480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أن دراسة الحالة ليست (( وسيلة )) جمع معلومات بذاتها، ولكنها أسلوب لتجميع المعلومات التي تم جمعها بالوسائل الأخرى، مثل المقابلة والملاحظة ومؤتمر الحالة والإختبارات والمقاييس والسيرة الشخصية .</a:t>
            </a:r>
            <a:endParaRPr b="0" lang="en-US" sz="2800" spc="-1" strike="noStrike">
              <a:solidFill>
                <a:srgbClr val="000000"/>
              </a:solidFill>
              <a:latin typeface="Gill Sans MT"/>
            </a:endParaRPr>
          </a:p>
          <a:p>
            <a:pPr marL="248040" indent="-24804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ما هي دراسة الحالة : </a:t>
            </a:r>
            <a:endParaRPr b="0" lang="en-US" sz="2800" spc="-1" strike="noStrike">
              <a:solidFill>
                <a:srgbClr val="000000"/>
              </a:solidFill>
              <a:latin typeface="Gill Sans MT"/>
            </a:endParaRPr>
          </a:p>
          <a:p>
            <a:pPr marL="248040" indent="-2480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هي كل المعلومات التي تجمع عن الحالة. والحالة قد تكون فرداً أو أسرة أو جماعة. و تحليل دقيق للموقف العام للحالة ككل. وبحث شامل لأهم عناصر حياة العميل ووسيلة لتقديم صورة مجمعة للشخصية ككل ، وبذلك تشمل دراسة مفصلة للفرد في حاضره وماضية. وعادة مايقوم بها المرشد في الحالات العادية ، أما في الحالات المضطربة فقد يقوم بها أكثر من أخصائي ، كل من زاوية تخصصه. ويتولى المرشد أو المعالج عملية التنسيق.</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762120"/>
            <a:ext cx="7477200" cy="53496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دراسة الحالة</a:t>
            </a:r>
            <a:endParaRPr b="0" lang="en-US" sz="3200" spc="-1" strike="noStrike">
              <a:solidFill>
                <a:srgbClr val="464653"/>
              </a:solidFill>
              <a:latin typeface="Bookman Old Style"/>
            </a:endParaRPr>
          </a:p>
        </p:txBody>
      </p:sp>
      <p:sp>
        <p:nvSpPr>
          <p:cNvPr id="403" name=""/>
          <p:cNvSpPr txBox="1"/>
          <p:nvPr/>
        </p:nvSpPr>
        <p:spPr>
          <a:xfrm>
            <a:off x="263520" y="1676160"/>
            <a:ext cx="8423280" cy="4800600"/>
          </a:xfrm>
          <a:prstGeom prst="rect">
            <a:avLst/>
          </a:prstGeom>
          <a:noFill/>
          <a:ln w="0">
            <a:noFill/>
          </a:ln>
        </p:spPr>
        <p:txBody>
          <a:bodyPr anchor="t">
            <a:normAutofit fontScale="95000"/>
          </a:bodyPr>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Gill Sans MT"/>
              </a:rPr>
              <a:t>وتهدف</a:t>
            </a:r>
            <a:r>
              <a:rPr b="0" lang="ar-SA" sz="2800" spc="-1" strike="noStrike">
                <a:solidFill>
                  <a:srgbClr val="000000"/>
                </a:solidFill>
                <a:latin typeface="Gill Sans MT"/>
              </a:rPr>
              <a:t> دراسة الحالة إلى الوصول إلى فهم أفضل للعميل ، وتحديد وتشخيص مشكلاته وطبيعتها وأسبابها ، واتخاذ التوصيات الإرشادية والتخطيط للخدمات الإرشادية اللازمة .والهدف الرئيسي لدراسة الحالة هو تجميع المعلومات ومراجعتها ودراستها وتحليلها وتركيبها وتجميعها وتنظيمها وتلخيصها ووزنها كلينيكياً</a:t>
            </a:r>
            <a:r>
              <a:rPr b="0" lang="ar-SA" sz="2000" spc="-1" strike="noStrike">
                <a:solidFill>
                  <a:srgbClr val="000000"/>
                </a:solidFill>
                <a:latin typeface="Gill Sans MT"/>
              </a:rPr>
              <a:t>.</a:t>
            </a:r>
            <a:endParaRPr b="0" lang="en-US" sz="2000" spc="-1" strike="noStrike">
              <a:solidFill>
                <a:srgbClr val="000000"/>
              </a:solidFill>
              <a:latin typeface="Gill Sans MT"/>
            </a:endParaRPr>
          </a:p>
          <a:p>
            <a:pPr marL="259200" indent="-2592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59200" indent="-2592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rPr>
              <a:t>تاريخ الحالة جزء من دراسة الحالة: </a:t>
            </a:r>
            <a:endParaRPr b="0" lang="en-US" sz="2800" spc="-1" strike="noStrike">
              <a:solidFill>
                <a:srgbClr val="000000"/>
              </a:solidFill>
              <a:latin typeface="Gill Sans MT"/>
            </a:endParaRPr>
          </a:p>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عتبر دراسة تاريخ الحالة أو ( تاريخ الحياة ) جزءاً من دراسة الحالة. وهو موجز لتاريخ الحالة كما يكتبه العميل، وكما يجمع عن طريق الوسائل الأخرى. ويتناول دراسة مسحية طولية شاملة للنمو منذ وجوده والعوامل المؤثرة فيه، وأسلوب التنشئة الإجتماعية، والخبرات الماضية، والتاريخ التربوي والتعليمي والصحي، والخبرات المهنية، والمواقف التي تتضمن صراعات، وتاريخ التوافق النفسي، وتاريخ الأسره، بطريقة شاملة وموضوعية بقدر الإمكان .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18880" y="227160"/>
            <a:ext cx="7476840" cy="99216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تاريخ الحالة</a:t>
            </a:r>
            <a:endParaRPr b="0" lang="en-US" sz="3200" spc="-1" strike="noStrike">
              <a:solidFill>
                <a:srgbClr val="464653"/>
              </a:solidFill>
              <a:latin typeface="Bookman Old Style"/>
            </a:endParaRPr>
          </a:p>
        </p:txBody>
      </p:sp>
      <p:sp>
        <p:nvSpPr>
          <p:cNvPr id="405" name=""/>
          <p:cNvSpPr txBox="1"/>
          <p:nvPr/>
        </p:nvSpPr>
        <p:spPr>
          <a:xfrm>
            <a:off x="457200" y="1219320"/>
            <a:ext cx="8229600" cy="4937040"/>
          </a:xfrm>
          <a:prstGeom prst="rect">
            <a:avLst/>
          </a:prstGeom>
          <a:noFill/>
          <a:ln w="0">
            <a:noFill/>
          </a:ln>
        </p:spPr>
        <p:txBody>
          <a:bodyPr anchor="t">
            <a:normAutofit fontScale="94000"/>
          </a:bodyPr>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يجب التأكد من معلومات تاريخ الحالة لأن بعضها قد يتأثر بعامل الزمن والنسيان فلايكون دقيقاً .</a:t>
            </a:r>
            <a:endParaRPr b="0" lang="en-US" sz="24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هناك فرق بين دراسة الحالة وتاريخ الحالة هو ان دراسة الحالة تعتبر بمثابة قطاعاً مستعرضاً حياة الفرد ،أى أنها دراسة استعراضية لحياة العميل تركز على حاضر الحالة ووضعها الراهن ، بينما تاريخ الحالة يعتبر بمثابة قطاع طولي لحياة العميل ، يقتصر على الماضي ، ويختص فقط بماضي الحالة ،إنها دراسة تتبعية لحياة العميل .</a:t>
            </a:r>
            <a:endParaRPr b="0" lang="en-US" sz="2400" spc="-1" strike="noStrike">
              <a:solidFill>
                <a:srgbClr val="000000"/>
              </a:solidFill>
              <a:latin typeface="Gill Sans MT"/>
            </a:endParaRPr>
          </a:p>
          <a:p>
            <a:pPr marL="256320" indent="-256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ill Sans MT"/>
              </a:rPr>
              <a:t>تطلعات المستقبل جزء من دراسة الحالة : </a:t>
            </a:r>
            <a:endParaRPr b="0" lang="en-US" sz="24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حصول على معلومات عن تطلعات العميل إلى المستقبل جزء مهم. </a:t>
            </a:r>
            <a:endParaRPr b="0" lang="en-US" sz="24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الحصول على المعلومات من كتابة العميل ووصفه للشخص المثالي الذي يود أن يكون في المستقبل .</a:t>
            </a:r>
            <a:endParaRPr b="0" lang="en-US" sz="2400" spc="-1" strike="noStrike">
              <a:solidFill>
                <a:srgbClr val="000000"/>
              </a:solidFill>
              <a:latin typeface="Gill Sans MT"/>
            </a:endParaRPr>
          </a:p>
          <a:p>
            <a:pPr marL="256320" indent="-256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فيد دراسة تطلعات المستقبل في مطابقة بين حاضر العميل ونظرته المستقبلية إلى نفسه، أي إلى ذاته المثالية ومدى التطابق بين الإثنين، ومدى الرضا بالوضع الراهن والتوافق النفسي والصحة النفسية ....</a:t>
            </a:r>
            <a:endParaRPr b="0" lang="en-US" sz="2400" spc="-1" strike="noStrike">
              <a:solidFill>
                <a:srgbClr val="000000"/>
              </a:solidFill>
              <a:latin typeface="Gill Sans MT"/>
            </a:endParaRPr>
          </a:p>
          <a:p>
            <a:pPr marL="256320" indent="-256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Bookman Old Style"/>
              </a:rPr>
              <a:t>عوامل نجاح دراسة الحالة</a:t>
            </a:r>
            <a:endParaRPr b="0" lang="en-US" sz="4800" spc="-1" strike="noStrike">
              <a:solidFill>
                <a:srgbClr val="464653"/>
              </a:solidFill>
              <a:latin typeface="Bookman Old Style"/>
            </a:endParaRPr>
          </a:p>
        </p:txBody>
      </p:sp>
      <p:sp>
        <p:nvSpPr>
          <p:cNvPr id="407" name=""/>
          <p:cNvSpPr txBox="1"/>
          <p:nvPr/>
        </p:nvSpPr>
        <p:spPr>
          <a:xfrm>
            <a:off x="457200" y="1219320"/>
            <a:ext cx="8229600" cy="4937040"/>
          </a:xfrm>
          <a:prstGeom prst="rect">
            <a:avLst/>
          </a:prstGeom>
          <a:noFill/>
          <a:ln w="0">
            <a:noFill/>
          </a:ln>
        </p:spPr>
        <p:txBody>
          <a:bodyPr anchor="t">
            <a:normAutofit fontScale="94000"/>
          </a:bodyPr>
          <a:p>
            <a:pPr marL="256320" indent="-256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rPr>
              <a:t>لنجاح دراسة الحالة، يجب أن تراعي الشروط الآتية : </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تنظيم: </a:t>
            </a:r>
            <a:r>
              <a:rPr b="0" lang="ar-SA" sz="2800" spc="-1" strike="noStrike">
                <a:solidFill>
                  <a:srgbClr val="000000"/>
                </a:solidFill>
                <a:latin typeface="Gill Sans MT"/>
              </a:rPr>
              <a:t>التسلسل والوضوح وذلك لكثرة المعلومات التي تشملها دراسة الحالة . </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دقة: </a:t>
            </a:r>
            <a:r>
              <a:rPr b="0" lang="ar-SA" sz="2800" spc="-1" strike="noStrike">
                <a:solidFill>
                  <a:srgbClr val="000000"/>
                </a:solidFill>
                <a:latin typeface="Gill Sans MT"/>
              </a:rPr>
              <a:t>تلتزم في تحري المعلومات وخاصة أنها تجمع عن طريق وسائل متعددة ، ومراعاة تكامل المعلومات.</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إعتدال: </a:t>
            </a:r>
            <a:r>
              <a:rPr b="0" lang="ar-SA" sz="2800" spc="-1" strike="noStrike">
                <a:solidFill>
                  <a:srgbClr val="000000"/>
                </a:solidFill>
                <a:latin typeface="Gill Sans MT"/>
              </a:rPr>
              <a:t>اي الإعتدال بين التفصيل الممل وبين الإختصار المخل. ويتحدد طول دراسة الحالة حسب العميل وحسب هدف الدراسة. و يجب الإهتمام بالمعلومات الضرورية وعدم تجاهل بعضها، وفي نفس الوقت عدم التركيز على المعلومات الفرعية .</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إهتمام بالتسجيل : </a:t>
            </a:r>
            <a:r>
              <a:rPr b="0" lang="ar-SA" sz="2800" spc="-1" strike="noStrike">
                <a:solidFill>
                  <a:srgbClr val="000000"/>
                </a:solidFill>
                <a:latin typeface="Gill Sans MT"/>
              </a:rPr>
              <a:t>وهذا مهم وخاصة مع كثرة المعلومات ،مع تجنب المصطلحات الفنية المعقدة .</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إقتصاد: </a:t>
            </a:r>
            <a:r>
              <a:rPr b="0" lang="ar-SA" sz="2800" spc="-1" strike="noStrike">
                <a:solidFill>
                  <a:srgbClr val="000000"/>
                </a:solidFill>
                <a:latin typeface="Gill Sans MT"/>
              </a:rPr>
              <a:t>أى اتباع أقصر الطرق عملاً لبلوغ الهدف.</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ماذا تشتمل دراسة الحالة</a:t>
            </a:r>
            <a:endParaRPr b="0" lang="en-US" sz="32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عتبر دراسة الحالة بمثابة منظر من بعيد، وفكرة عامة شاملة عن الحالة. وتشمل كل المعلومات والعوامل الخبرات التي جعلت الحالة على ماهي عليه. أي أنها تشتمل على : المعلومات المهمة اللازمة لعملية الإرشاد، وعلى عينات من السلوك في الحياة اليومية . </a:t>
            </a: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يفضل البعض استخدام إطار معياري مقنن محدد لدراسة الحالة ، يعتبر بمثابة إطار منظم . </a:t>
            </a: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ليس هناك شكل واحد لهذا الإطار ، ولكن توجد أشكال مختلفة بعضها مفصل وشامل وبعضها مختصر يركز على المعلومات الرئيسية فقط</a:t>
            </a:r>
            <a:r>
              <a:rPr b="0" lang="en-US" sz="2600" spc="-1" strike="noStrike">
                <a:solidFill>
                  <a:srgbClr val="000000"/>
                </a:solidFill>
                <a:latin typeface="Gill Sans MT"/>
                <a:ea typeface="Times New Roman"/>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93958"/>
                </a:solidFill>
                <a:latin typeface="Bookman Old Style"/>
              </a:rPr>
              <a:t>تابع-المعلومات ووسائل جمعها</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ill Sans MT"/>
              </a:rPr>
              <a:t>وأما عن المشكلة الحالية أو المرض الحالي من حيث التحديد ، وتعيين الأسباب ، والأعراض </a:t>
            </a:r>
            <a:r>
              <a:rPr b="0" lang="ar-SA" sz="2800" spc="-1" strike="noStrike">
                <a:solidFill>
                  <a:srgbClr val="000000"/>
                </a:solidFill>
                <a:latin typeface="Gill Sans MT"/>
              </a:rPr>
              <a:t>، يمكن الحصول عليها أيضاً عن طريق الملاحظة والمقابلة ، ودراسة الحالة ، والإختبارات والمقاييس ، والفحوص والبحوث النفسية والطبية والعصبية والإجتماعية والتقارير والسيرة الشخصية ، والسجلات ومصادر المجتمع .</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ill Sans MT"/>
              </a:rPr>
              <a:t>وأما عن المعلومات العامة عن النمو ، والدوافع والحاجات ، وهدف الحياة </a:t>
            </a:r>
            <a:r>
              <a:rPr b="0" lang="ar-SA" sz="2800" spc="-1" strike="noStrike">
                <a:solidFill>
                  <a:srgbClr val="000000"/>
                </a:solidFill>
                <a:latin typeface="Gill Sans MT"/>
              </a:rPr>
              <a:t>،يمكن الحصول عليها عن طريق الملاحظة ، والمقابلة ، ودراسة الحالة ، ومؤتمر الحالة والإختبارات والمقاييس ، والسيرة الشخصية </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685800"/>
            <a:ext cx="7476840" cy="53496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528693"/>
                </a:solidFill>
                <a:latin typeface="Bookman Old Style"/>
              </a:rPr>
              <a:t>تابع- ماذا تشتمل دراسة الحالة</a:t>
            </a:r>
            <a:endParaRPr b="0" lang="en-US" sz="2900" spc="-1" strike="noStrike">
              <a:solidFill>
                <a:srgbClr val="464653"/>
              </a:solidFill>
              <a:latin typeface="Bookman Old Style"/>
            </a:endParaRPr>
          </a:p>
        </p:txBody>
      </p:sp>
      <p:sp>
        <p:nvSpPr>
          <p:cNvPr id="411" name=""/>
          <p:cNvSpPr txBox="1"/>
          <p:nvPr/>
        </p:nvSpPr>
        <p:spPr>
          <a:xfrm>
            <a:off x="263520" y="1599840"/>
            <a:ext cx="8346960" cy="4800600"/>
          </a:xfrm>
          <a:prstGeom prst="rect">
            <a:avLst/>
          </a:prstGeom>
          <a:noFill/>
          <a:ln w="0">
            <a:noFill/>
          </a:ln>
        </p:spPr>
        <p:txBody>
          <a:bodyPr anchor="t">
            <a:normAutofit fontScale="91000"/>
          </a:bodyPr>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فيما يلي إطار مقترح لدراسة الحالة :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معلومات والبيانات العامة: </a:t>
            </a:r>
            <a:r>
              <a:rPr b="0" lang="ar-SA" sz="2400" spc="-1" strike="noStrike">
                <a:solidFill>
                  <a:srgbClr val="000000"/>
                </a:solidFill>
                <a:latin typeface="Gill Sans MT"/>
              </a:rPr>
              <a:t>عن العميل ووالديه وإخوانه وزوجته وأولاده ومن يعولهم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شخصية: </a:t>
            </a:r>
            <a:r>
              <a:rPr b="0" lang="ar-SA" sz="2400" spc="-1" strike="noStrike">
                <a:solidFill>
                  <a:srgbClr val="000000"/>
                </a:solidFill>
                <a:latin typeface="Gill Sans MT"/>
              </a:rPr>
              <a:t>بناؤها وسماتها وأبعادها  واضطراباتها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حالة الجسمية والصحية: </a:t>
            </a:r>
            <a:r>
              <a:rPr b="0" lang="ar-SA" sz="2400" spc="-1" strike="noStrike">
                <a:solidFill>
                  <a:srgbClr val="000000"/>
                </a:solidFill>
                <a:latin typeface="Gill Sans MT"/>
              </a:rPr>
              <a:t>طبياً وعصبياً ، ومعلومات عن الطول والوزن والمظهر الجسمي والعاهات والأمراض .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حالة العقلية المعفية: </a:t>
            </a:r>
            <a:r>
              <a:rPr b="0" lang="ar-SA" sz="2400" spc="-1" strike="noStrike">
                <a:solidFill>
                  <a:srgbClr val="000000"/>
                </a:solidFill>
                <a:latin typeface="Gill Sans MT"/>
              </a:rPr>
              <a:t>تشمل الذكاء والقدرات والإستعدادات والتحصيل والتقدم الدراسي ، وملاحظات المعلمين والمشكلات التعليمية والإتجاهات نحو المدرسة والخطط الدراسية والمهنية .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نواحي الإجتماعية: </a:t>
            </a:r>
            <a:r>
              <a:rPr b="0" lang="ar-SA" sz="2400" spc="-1" strike="noStrike">
                <a:solidFill>
                  <a:srgbClr val="000000"/>
                </a:solidFill>
                <a:latin typeface="Gill Sans MT"/>
              </a:rPr>
              <a:t>تتضمن المعلومات المتعلقة بالمجال الإجتماعي وعملية التنشئة الإجتماعية ، والخلفية الأسرية وخاصة تركيب الأسرة والعلاقات والإتجاهات ، والبيئة المنزلية ، والقيم ، والميول والهوايات ....الخ</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نواحي الإنفعالية: </a:t>
            </a:r>
            <a:r>
              <a:rPr b="0" lang="ar-SA" sz="2400" spc="-1" strike="noStrike">
                <a:solidFill>
                  <a:srgbClr val="000000"/>
                </a:solidFill>
                <a:latin typeface="Gill Sans MT"/>
              </a:rPr>
              <a:t>تشمل الحالة الإنفعالية ومستوى النضج الإنفعالي والثقة في النفس والإتجاه نحو الذات ، والصراعات والصدمات الإنفعالية واللازمات ... إلخ . </a:t>
            </a:r>
            <a:endParaRPr b="0" lang="en-US" sz="2400" spc="-1" strike="noStrike">
              <a:solidFill>
                <a:srgbClr val="000000"/>
              </a:solidFill>
              <a:latin typeface="Gill Sans MT"/>
            </a:endParaRPr>
          </a:p>
          <a:p>
            <a:pPr marL="248040" indent="-2480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28693"/>
                </a:solidFill>
                <a:latin typeface="Bookman Old Style"/>
              </a:rPr>
              <a:t>تابع- ماذا تشتمل دراسة الحالة</a:t>
            </a:r>
            <a:endParaRPr b="0" lang="en-US" sz="3200" spc="-1" strike="noStrike">
              <a:solidFill>
                <a:srgbClr val="464653"/>
              </a:solidFill>
              <a:latin typeface="Bookman Old Style"/>
            </a:endParaRPr>
          </a:p>
        </p:txBody>
      </p:sp>
      <p:sp>
        <p:nvSpPr>
          <p:cNvPr id="413" name=""/>
          <p:cNvSpPr txBox="1"/>
          <p:nvPr/>
        </p:nvSpPr>
        <p:spPr>
          <a:xfrm>
            <a:off x="263520" y="1600200"/>
            <a:ext cx="8423280" cy="4495680"/>
          </a:xfrm>
          <a:prstGeom prst="rect">
            <a:avLst/>
          </a:prstGeom>
          <a:noFill/>
          <a:ln w="0">
            <a:noFill/>
          </a:ln>
        </p:spPr>
        <p:txBody>
          <a:bodyPr anchor="t">
            <a:normAutofit fontScale="87000"/>
          </a:bodyPr>
          <a:p>
            <a:pPr marL="237240" indent="-2372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تطور النمو: </a:t>
            </a:r>
            <a:r>
              <a:rPr b="0" lang="ar-SA" sz="2400" spc="-1" strike="noStrike">
                <a:solidFill>
                  <a:srgbClr val="000000"/>
                </a:solidFill>
                <a:latin typeface="Gill Sans MT"/>
              </a:rPr>
              <a:t>من حيث معدله ، ومدى تحقيق مطالب النمو ، واضرابه ومشكلاته . </a:t>
            </a:r>
            <a:endParaRPr b="0" lang="en-US" sz="2400" spc="-1" strike="noStrike">
              <a:solidFill>
                <a:srgbClr val="000000"/>
              </a:solidFill>
              <a:latin typeface="Gill Sans MT"/>
            </a:endParaRPr>
          </a:p>
          <a:p>
            <a:pPr marL="237240" indent="-2372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نواحي العامة: </a:t>
            </a:r>
            <a:r>
              <a:rPr b="0" lang="ar-SA" sz="2400" spc="-1" strike="noStrike">
                <a:solidFill>
                  <a:srgbClr val="000000"/>
                </a:solidFill>
                <a:latin typeface="Gill Sans MT"/>
              </a:rPr>
              <a:t>مثل حاجات العميل ، وهدف حياته ، وأسلوب حياته ، وحيل دفاعة النفسي ، ومفهومة عن ذاته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مشكلة: </a:t>
            </a:r>
            <a:r>
              <a:rPr b="0" lang="ar-SA" sz="2400" spc="-1" strike="noStrike">
                <a:solidFill>
                  <a:srgbClr val="000000"/>
                </a:solidFill>
                <a:latin typeface="Gill Sans MT"/>
              </a:rPr>
              <a:t>تحديدها وأسبابها وأعراضها وتاريخها ومدى خطورتها ، والمحاولات السابقة لحلها ، ومشاعر وإتجاهات العميل نحوها ، والتغيرات التي تطرأ عليها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ملخص العام: </a:t>
            </a:r>
            <a:r>
              <a:rPr b="0" lang="ar-SA" sz="2400" spc="-1" strike="noStrike">
                <a:solidFill>
                  <a:srgbClr val="000000"/>
                </a:solidFill>
                <a:latin typeface="Gill Sans MT"/>
              </a:rPr>
              <a:t>ويشمل خلاصات المعلومات المهمة المرتبطة بالمشكلة .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a:t>
            </a:r>
            <a:r>
              <a:rPr b="0" lang="ar-SA" sz="2400" spc="-1" strike="noStrike">
                <a:solidFill>
                  <a:srgbClr val="0070c0"/>
                </a:solidFill>
                <a:latin typeface="Gill Sans MT"/>
              </a:rPr>
              <a:t>لتفسير: </a:t>
            </a:r>
            <a:r>
              <a:rPr b="0" lang="ar-SA" sz="2400" spc="-1" strike="noStrike">
                <a:solidFill>
                  <a:srgbClr val="000000"/>
                </a:solidFill>
                <a:latin typeface="Gill Sans MT"/>
              </a:rPr>
              <a:t>ويجب أن يكون دقيقاً وعلمياً ومعتدلاً غير درامي أو كاريكاتيري ، مع تجنب التعميمات غير الدعومة . ويستلزم ذلك دراسة البيئة المادية والإجتماعية والثقافية التي يعيش فيها العميل .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تشخيص: </a:t>
            </a:r>
            <a:r>
              <a:rPr b="0" lang="ar-SA" sz="2400" spc="-1" strike="noStrike">
                <a:solidFill>
                  <a:srgbClr val="000000"/>
                </a:solidFill>
                <a:latin typeface="Gill Sans MT"/>
              </a:rPr>
              <a:t>ويحدد فرض التشخيص، أى افتراض لتشخيص قابل للتأكيد أو الرفض.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توصيات: </a:t>
            </a:r>
            <a:r>
              <a:rPr b="0" lang="ar-SA" sz="2400" spc="-1" strike="noStrike">
                <a:solidFill>
                  <a:srgbClr val="000000"/>
                </a:solidFill>
                <a:latin typeface="Gill Sans MT"/>
              </a:rPr>
              <a:t>وتشمل الإقتراحات الخاصة بطريقة العلاج العاجل والآجل . وقد تشمل الحاجة إلى معلومات أخرى بوسائل معينة ، أو الإحالة إلى أخصائي معين .... إلخ .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ill Sans MT"/>
              </a:rPr>
              <a:t>المتابعة: </a:t>
            </a:r>
            <a:r>
              <a:rPr b="0" lang="ar-SA" sz="2400" spc="-1" strike="noStrike">
                <a:solidFill>
                  <a:srgbClr val="000000"/>
                </a:solidFill>
                <a:latin typeface="Gill Sans MT"/>
              </a:rPr>
              <a:t>وهذه ضرورة لتقدير مدى الإفادة من معلومات دراسة الحالة . </a:t>
            </a:r>
            <a:endParaRPr b="0" lang="en-US" sz="2400" spc="-1" strike="noStrike">
              <a:solidFill>
                <a:srgbClr val="000000"/>
              </a:solidFill>
              <a:latin typeface="Gill Sans MT"/>
            </a:endParaRPr>
          </a:p>
          <a:p>
            <a:pPr marL="237240" indent="-23724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37240" indent="-2372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مؤتمر الحالة</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fontScale="94000"/>
          </a:bodyPr>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مؤتمر الحالة ) يسمى مؤتمراً إلا أنه ليس مؤتمراً بالمعنى الحرفي للكلمة . ولذلك يفضل البعض تسميته ( مناقشة الحالة).</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هو إجتماع مناقشة خاصة يضم فريق الإرشاد كله أو بعضه ، ويضم كل أو بعض من يهمهم أمر العميل ، وكل أو بعض من لديه معلومات خاصة به ، ومستعد للتطوع والحضور شخصياً للإدلاء بها والمشاركة في تفسيرها والمشاركة في تفسيرها وفي إبداء بعض التوصيات ، بموافقة العميل .</a:t>
            </a:r>
            <a:endParaRPr b="0" lang="en-US" sz="28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ضم مؤتمر الحالة عادة الأخصائي النفسي والإخصائي الإجتماعي والمعلم – المرشد ، ومن أعضائه البارزين الوالدن . ويضم في بعض الحالات محيل الحالة والمدير وغيرهم . وعادة يتولى إدارته المرشد حتى لا يتحول إلى مجرد جلسة عامة .</a:t>
            </a:r>
            <a:endParaRPr b="0" lang="en-US" sz="28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Bookman Old Style"/>
              </a:rPr>
              <a:t>انواع مؤتمر الحالة</a:t>
            </a:r>
            <a:endParaRPr b="0" lang="en-US" sz="3200" spc="-1" strike="noStrike">
              <a:solidFill>
                <a:srgbClr val="464653"/>
              </a:solidFill>
              <a:latin typeface="Bookman Old Style"/>
            </a:endParaRPr>
          </a:p>
        </p:txBody>
      </p:sp>
      <p:sp>
        <p:nvSpPr>
          <p:cNvPr id="417" name=""/>
          <p:cNvSpPr txBox="1"/>
          <p:nvPr/>
        </p:nvSpPr>
        <p:spPr>
          <a:xfrm>
            <a:off x="457200" y="1645920"/>
            <a:ext cx="8229600" cy="4754520"/>
          </a:xfrm>
          <a:prstGeom prst="rect">
            <a:avLst/>
          </a:prstGeom>
          <a:noFill/>
          <a:ln w="0">
            <a:noFill/>
          </a:ln>
        </p:spPr>
        <p:txBody>
          <a:bodyPr anchor="t">
            <a:normAutofit fontScale="86000"/>
          </a:bodyPr>
          <a:p>
            <a:pPr marL="234360" indent="-23436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مؤتمر الحالة الواحدة: </a:t>
            </a:r>
            <a:r>
              <a:rPr b="0" lang="ar-SA" sz="2800" spc="-1" strike="noStrike">
                <a:solidFill>
                  <a:srgbClr val="000000"/>
                </a:solidFill>
                <a:latin typeface="Gill Sans MT"/>
              </a:rPr>
              <a:t>يكون خاصا بحالة عميل واحد.</a:t>
            </a:r>
            <a:endParaRPr b="0" lang="en-US" sz="2800" spc="-1" strike="noStrike">
              <a:solidFill>
                <a:srgbClr val="000000"/>
              </a:solidFill>
              <a:latin typeface="Gill Sans MT"/>
            </a:endParaRPr>
          </a:p>
          <a:p>
            <a:pPr marL="234360" indent="-23436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مؤتمر الحالات: </a:t>
            </a:r>
            <a:r>
              <a:rPr b="0" lang="ar-SA" sz="2800" spc="-1" strike="noStrike">
                <a:solidFill>
                  <a:srgbClr val="000000"/>
                </a:solidFill>
                <a:latin typeface="Gill Sans MT"/>
              </a:rPr>
              <a:t>يكون خاصا بدراسة حالة مجموعة من العملاء، كالمتفوقين او المتسربين...الخ</a:t>
            </a:r>
            <a:endParaRPr b="0" lang="en-US" sz="2800" spc="-1" strike="noStrike">
              <a:solidFill>
                <a:srgbClr val="000000"/>
              </a:solidFill>
              <a:latin typeface="Gill Sans MT"/>
            </a:endParaRPr>
          </a:p>
          <a:p>
            <a:pPr marL="234360" indent="-23436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مؤتمر الأخصائين: </a:t>
            </a:r>
            <a:r>
              <a:rPr b="0" lang="ar-SA" sz="2800" spc="-1" strike="noStrike">
                <a:solidFill>
                  <a:srgbClr val="000000"/>
                </a:solidFill>
                <a:latin typeface="Gill Sans MT"/>
              </a:rPr>
              <a:t>يضم الأخصائيين في الإرشاد فقط لتبادل الآراء والتعاون في إعطاء الرأي والاستماع الى التقارير واقتراح التوصيات.</a:t>
            </a:r>
            <a:endParaRPr b="0" lang="en-US" sz="2800" spc="-1" strike="noStrike">
              <a:solidFill>
                <a:srgbClr val="000000"/>
              </a:solidFill>
              <a:latin typeface="Gill Sans MT"/>
            </a:endParaRPr>
          </a:p>
          <a:p>
            <a:pPr marL="234360" indent="-23436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مؤتمر الأخصائيين وغير الأخصائيين: </a:t>
            </a:r>
            <a:r>
              <a:rPr b="0" lang="ar-SA" sz="2800" spc="-1" strike="noStrike">
                <a:solidFill>
                  <a:srgbClr val="000000"/>
                </a:solidFill>
                <a:latin typeface="Gill Sans MT"/>
              </a:rPr>
              <a:t>يضم إلى جانب الأخصائيين كل من يهمهم أمر العميل من غير الأخصائيين، ويخص حالة واحدة.</a:t>
            </a:r>
            <a:endParaRPr b="0" lang="en-US" sz="2800" spc="-1" strike="noStrike">
              <a:solidFill>
                <a:srgbClr val="000000"/>
              </a:solidFill>
              <a:latin typeface="Gill Sans MT"/>
            </a:endParaRPr>
          </a:p>
          <a:p>
            <a:pPr marL="234360" indent="-23436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مؤتمر المرشد والعميل والوالد: </a:t>
            </a:r>
            <a:r>
              <a:rPr b="0" lang="ar-SA" sz="2800" spc="-1" strike="noStrike">
                <a:solidFill>
                  <a:srgbClr val="000000"/>
                </a:solidFill>
                <a:latin typeface="Gill Sans MT"/>
              </a:rPr>
              <a:t>يضم المرشد والعميل واحد الوالدين او كلاهما، ويكون مؤتمر محدد. قد ينضم إليه أعضاء من الإرشاد بموافقة العميل.</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عوامل نجاح مؤتمر الحالة</a:t>
            </a:r>
            <a:endParaRPr b="0" lang="en-US" sz="3600" spc="-1" strike="noStrike">
              <a:solidFill>
                <a:srgbClr val="464653"/>
              </a:solidFill>
              <a:latin typeface="Bookman Old Style"/>
            </a:endParaRPr>
          </a:p>
        </p:txBody>
      </p:sp>
      <p:sp>
        <p:nvSpPr>
          <p:cNvPr id="419" name=""/>
          <p:cNvSpPr txBox="1"/>
          <p:nvPr/>
        </p:nvSpPr>
        <p:spPr>
          <a:xfrm>
            <a:off x="457200" y="1646280"/>
            <a:ext cx="8229600" cy="4906800"/>
          </a:xfrm>
          <a:prstGeom prst="rect">
            <a:avLst/>
          </a:prstGeom>
          <a:noFill/>
          <a:ln w="0">
            <a:noFill/>
          </a:ln>
        </p:spPr>
        <p:txBody>
          <a:bodyPr anchor="t">
            <a:normAutofit fontScale="94000"/>
          </a:bodyPr>
          <a:p>
            <a:pPr marL="256320" indent="-25632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ساعد على نجاح مؤتمر الحالة توافر شروط منها: </a:t>
            </a:r>
            <a:endParaRPr b="0" lang="en-US" sz="24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عقده في حالات الضرورة فقط: </a:t>
            </a:r>
            <a:r>
              <a:rPr b="0" lang="ar-SA" sz="2800" spc="-1" strike="noStrike">
                <a:solidFill>
                  <a:srgbClr val="000000"/>
                </a:solidFill>
                <a:latin typeface="Gill Sans MT"/>
              </a:rPr>
              <a:t>يجب أن يقتصر عقد مؤتمر الحالة على حالات الضرورة التي تحتاج إلى عقده. أي أن هذه الوسيلة ليست عامة بالنسبة لجميع حالات الإرشاد النفسي. </a:t>
            </a:r>
            <a:endParaRPr b="0" lang="en-US" sz="28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موافقة العميل: </a:t>
            </a:r>
            <a:r>
              <a:rPr b="0" lang="ar-SA" sz="2800" spc="-1" strike="noStrike">
                <a:solidFill>
                  <a:srgbClr val="000000"/>
                </a:solidFill>
                <a:latin typeface="Gill Sans MT"/>
              </a:rPr>
              <a:t>يجب الحصول على موافقة العميل على عقد مؤتمر الحالة. فبعض العملاء يأتون للاسترشاد بشروط خاصة منها ألا يعرف أهلهم أو ذووهم ،وهؤلاء جميعاً لا يجوز عقد مؤتمر حالة بخصوصهم. </a:t>
            </a:r>
            <a:endParaRPr b="0" lang="en-US" sz="28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مراعاة المعايير الأخلاقية: </a:t>
            </a:r>
            <a:r>
              <a:rPr b="0" lang="ar-SA" sz="2800" spc="-1" strike="noStrike">
                <a:solidFill>
                  <a:srgbClr val="000000"/>
                </a:solidFill>
                <a:latin typeface="Gill Sans MT"/>
              </a:rPr>
              <a:t>يجب مراعاة أخلاقيات الإرشاد النفسي الخاصة بأسرار العميل. أي أن المؤتمر يجب أن يقتصر على ما لا يعتبر سراً بالعميل نفسه.</a:t>
            </a:r>
            <a:endParaRPr b="0" lang="en-US" sz="28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حضور الاختياري: </a:t>
            </a:r>
            <a:r>
              <a:rPr b="0" lang="ar-SA" sz="2800" spc="-1" strike="noStrike">
                <a:solidFill>
                  <a:srgbClr val="000000"/>
                </a:solidFill>
                <a:latin typeface="Gill Sans MT"/>
              </a:rPr>
              <a:t>يجب أن يكون حضور المؤتمرين برضا واختيار ودون إجبار، حتى لا يكون حضورهم مجرد حضور روتيني عديم الجدوى، وهذا يجعل حضور المؤتمر متاحاً ومفتوحاً أمام المهتمين والمتحمسين لحضوره فقط. </a:t>
            </a:r>
            <a:endParaRPr b="0" lang="en-US" sz="2800" spc="-1" strike="noStrike">
              <a:solidFill>
                <a:srgbClr val="000000"/>
              </a:solidFill>
              <a:latin typeface="Gill Sans MT"/>
            </a:endParaRPr>
          </a:p>
          <a:p>
            <a:pPr marL="256320" indent="-25632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28693"/>
                </a:solidFill>
                <a:latin typeface="Bookman Old Style"/>
              </a:rPr>
              <a:t>تابع- عوامل نجاح مؤتمر الحالة</a:t>
            </a:r>
            <a:endParaRPr b="0" lang="en-US" sz="3600" spc="-1" strike="noStrike">
              <a:solidFill>
                <a:srgbClr val="464653"/>
              </a:solidFill>
              <a:latin typeface="Bookman Old Style"/>
            </a:endParaRPr>
          </a:p>
        </p:txBody>
      </p:sp>
      <p:sp>
        <p:nvSpPr>
          <p:cNvPr id="421" name=""/>
          <p:cNvSpPr txBox="1"/>
          <p:nvPr/>
        </p:nvSpPr>
        <p:spPr>
          <a:xfrm>
            <a:off x="263160" y="1752120"/>
            <a:ext cx="8271000" cy="434340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هتمام الحاضرين: </a:t>
            </a:r>
            <a:r>
              <a:rPr b="0" lang="ar-SA" sz="2800" spc="-1" strike="noStrike">
                <a:solidFill>
                  <a:srgbClr val="000000"/>
                </a:solidFill>
                <a:latin typeface="Gill Sans MT"/>
              </a:rPr>
              <a:t>يجب أن يكون الحاضرون مهتمين بحالة العميل. ويجب أن يكونوا فاهمين لطبيعة المؤتمر وهدفه والمطلوب من كل منهم.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جو غير الرسمي : </a:t>
            </a:r>
            <a:r>
              <a:rPr b="0" lang="ar-SA" sz="2800" spc="-1" strike="noStrike">
                <a:solidFill>
                  <a:srgbClr val="000000"/>
                </a:solidFill>
                <a:latin typeface="Gill Sans MT"/>
              </a:rPr>
              <a:t>يجب أن يسود المؤتمر جو غير رسمي. ولكن يجب في نفس الوقت أن يتوافر قدر من المسئولية، إذ يجب أن يكون المؤتمرون لديهم معلومات مهمة وحديثة ولازمة فعلاً.</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مراعاة التخصصات : </a:t>
            </a:r>
            <a:r>
              <a:rPr b="0" lang="ar-SA" sz="2800" spc="-1" strike="noStrike">
                <a:solidFill>
                  <a:srgbClr val="000000"/>
                </a:solidFill>
                <a:latin typeface="Gill Sans MT"/>
              </a:rPr>
              <a:t>يجب مراعاة التخصصات المختلفة والخلفيات المتنوعة لأعضاء المؤتمر، وعدم سيطرة بعضهم على الجلسة، وعدم الاستخفاف بما يلدى به بعض الأعضاء من معلومات أو آراء أو تعليقات أو توصيات.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الاختبارات والمقاييس</a:t>
            </a:r>
            <a:endParaRPr b="0" lang="en-US" sz="3600" spc="-1" strike="noStrike">
              <a:solidFill>
                <a:srgbClr val="464653"/>
              </a:solidFill>
              <a:latin typeface="Bookman Old Style"/>
            </a:endParaRPr>
          </a:p>
        </p:txBody>
      </p:sp>
      <p:sp>
        <p:nvSpPr>
          <p:cNvPr id="423" name=""/>
          <p:cNvSpPr txBox="1"/>
          <p:nvPr/>
        </p:nvSpPr>
        <p:spPr>
          <a:xfrm>
            <a:off x="263520" y="1676520"/>
            <a:ext cx="8346960" cy="502920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ل ما يوجد يوجد بمقدار، وكل ما يوجد بمقدار يقاس. كذلك فإن كل ما يمكن أن يقاس من خصائص الأشخاص يوجد فيه فروق فردية بينهم. وينطبق هذا على الذكاء والقدرات والاستعدادات والتحصيل والشخصية والميول والقيم والاتجاهات والتوافق النفسي والصحة النفسية. وهذه كلها معلومات لازمة في الإرشاد النفسي. </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بتكر العلماء الاختبارات والمقاييس النفسية كأدوات مقننة يمكن بها قياس أوجه السلوك المختلفة بصورة علمية. وكثرت وتعددت الاختبارات والمقاييس، وأصبح من الممكن قياس العديد بل معظم الخصائص النفسية للفرد. ولا شك أن الاختبارت والمقاييس تعتبر من أهم وسائل جمع المعلومات في الإرشاد النفسي.</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الاختبارات والمقاييس</a:t>
            </a:r>
            <a:endParaRPr b="0" lang="en-US" sz="3200" spc="-1" strike="noStrike">
              <a:solidFill>
                <a:srgbClr val="464653"/>
              </a:solidFill>
              <a:latin typeface="Bookman Old Style"/>
            </a:endParaRPr>
          </a:p>
        </p:txBody>
      </p:sp>
      <p:sp>
        <p:nvSpPr>
          <p:cNvPr id="425" name=""/>
          <p:cNvSpPr txBox="1"/>
          <p:nvPr/>
        </p:nvSpPr>
        <p:spPr>
          <a:xfrm>
            <a:off x="457200" y="1646280"/>
            <a:ext cx="8229600" cy="4906800"/>
          </a:xfrm>
          <a:prstGeom prst="rect">
            <a:avLst/>
          </a:prstGeom>
          <a:noFill/>
          <a:ln w="0">
            <a:noFill/>
          </a:ln>
        </p:spPr>
        <p:txBody>
          <a:bodyPr anchor="t">
            <a:normAutofit fontScale="90000"/>
          </a:bodyPr>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القياس النفسي يتطلب الدقة والتحديد للقيم الكمية التي تقدر بها الصفات وتتخذ أساساً للحكم والمقارنة. ويكون للقياس وحدات معيارية. وبدون القياس نجد أنفسنا نعالج مجموعة من العموميات ليس إلا.</a:t>
            </a:r>
            <a:endParaRPr b="0" lang="en-US" sz="2800" spc="-1" strike="noStrike">
              <a:solidFill>
                <a:srgbClr val="000000"/>
              </a:solidFill>
              <a:latin typeface="Gill Sans MT"/>
            </a:endParaRPr>
          </a:p>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هكذا يجب الاهتمام بدراسة الاختبارات والمقاييس النفسية، والتدريب الكافي على استخدامها، ومتابعة الجديد منها.</a:t>
            </a:r>
            <a:r>
              <a:rPr b="0" lang="ar-SA" sz="2600" spc="-1" strike="noStrike">
                <a:solidFill>
                  <a:srgbClr val="000000"/>
                </a:solidFill>
                <a:latin typeface="Gill Sans MT"/>
              </a:rPr>
              <a:t> </a:t>
            </a:r>
            <a:endParaRPr b="0" lang="en-US" sz="2600" spc="-1" strike="noStrike">
              <a:solidFill>
                <a:srgbClr val="000000"/>
              </a:solidFill>
              <a:latin typeface="Gill Sans MT"/>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Gill Sans MT"/>
              </a:rPr>
              <a:t>أهمية الاختبارات والمقاييس:</a:t>
            </a:r>
            <a:endParaRPr b="0" lang="en-US" sz="2600" spc="-1" strike="noStrike">
              <a:solidFill>
                <a:srgbClr val="000000"/>
              </a:solidFill>
              <a:latin typeface="Gill Sans MT"/>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يبرز اهمية استخدام الاختبارات والمقاييس في الإرشاد النفسي اهتمام الكثير من مراكز وعيادات الإرشاد والمدارس بما يسمى ((برنامج الاختبارات والمقاييس)) الذي يتضمن تجهيز عدد متنوع متكامل من الاختبارات والمقاييس الفردية والجماعية في شكل وحدة أو مجموعة أو بطارية.</a:t>
            </a:r>
            <a:endParaRPr b="0" lang="en-US" sz="2800" spc="-1" strike="noStrike">
              <a:solidFill>
                <a:srgbClr val="000000"/>
              </a:solidFill>
              <a:latin typeface="Gill Sans MT"/>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761760"/>
            <a:ext cx="7477200" cy="6109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 اهمية الاختبارات والمقاييس</a:t>
            </a:r>
            <a:endParaRPr b="0" lang="en-US" sz="3200" spc="-1" strike="noStrike">
              <a:solidFill>
                <a:srgbClr val="464653"/>
              </a:solidFill>
              <a:latin typeface="Bookman Old Style"/>
            </a:endParaRPr>
          </a:p>
        </p:txBody>
      </p:sp>
      <p:sp>
        <p:nvSpPr>
          <p:cNvPr id="427" name=""/>
          <p:cNvSpPr txBox="1"/>
          <p:nvPr/>
        </p:nvSpPr>
        <p:spPr>
          <a:xfrm>
            <a:off x="263520" y="1599840"/>
            <a:ext cx="8499600" cy="4800600"/>
          </a:xfrm>
          <a:prstGeom prst="rect">
            <a:avLst/>
          </a:prstGeom>
          <a:noFill/>
          <a:ln w="0">
            <a:noFill/>
          </a:ln>
        </p:spPr>
        <p:txBody>
          <a:bodyPr anchor="t">
            <a:normAutofit fontScale="96000"/>
          </a:bodyPr>
          <a:p>
            <a:pPr marL="261720" indent="-261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قوم الأخصائيون من بين أعضاء هيئة التوجيه والإرشاد بتخطيط البرنامج وإعداد والإرشاد بتخطيط البرنامج وإعداد والإشراف على إجرائه وتسجيل نتائجه، وإنشاء إعداد وتقنين الاختبارات الناقصة والمطلوبة. </a:t>
            </a:r>
            <a:endParaRPr b="0" lang="en-US" sz="28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ا يوضح أهمية الاختبارات والمقاييس أنه اصبح لها مؤسسات ووكالات خاصة عملها إنشاء وتقنين ونشر وتوزيع الاختبارات والمقاييس والأجهزة النفسية في أنحاء العالم.</a:t>
            </a:r>
            <a:endParaRPr b="0" lang="en-US" sz="28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r>
              <a:rPr b="1" lang="ar-SA" sz="2800" spc="-1" strike="noStrike">
                <a:solidFill>
                  <a:srgbClr val="7030a0"/>
                </a:solidFill>
                <a:latin typeface="Gill Sans MT"/>
              </a:rPr>
              <a:t>شروط الاختبارات والمقاييس:</a:t>
            </a:r>
            <a:endParaRPr b="0" lang="en-US" sz="2800" spc="-1" strike="noStrike">
              <a:solidFill>
                <a:srgbClr val="000000"/>
              </a:solidFill>
              <a:latin typeface="Gill Sans MT"/>
            </a:endParaRPr>
          </a:p>
          <a:p>
            <a:pPr marL="261720" indent="-261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هناك شروط للاختبارات والمقاييس النفسية الجيدة. وفيما يلي هذه الشروط: </a:t>
            </a:r>
            <a:endParaRPr b="0" lang="en-US" sz="2800" spc="-1" strike="noStrike">
              <a:solidFill>
                <a:srgbClr val="000000"/>
              </a:solidFill>
              <a:latin typeface="Gill Sans MT"/>
            </a:endParaRPr>
          </a:p>
          <a:p>
            <a:pPr marL="261720" indent="-261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صدق:</a:t>
            </a:r>
            <a:r>
              <a:rPr b="0" lang="ar-SA" sz="2800" spc="-1" strike="noStrike">
                <a:solidFill>
                  <a:srgbClr val="c00000"/>
                </a:solidFill>
                <a:latin typeface="Gill Sans MT"/>
              </a:rPr>
              <a:t> </a:t>
            </a:r>
            <a:r>
              <a:rPr b="0" lang="ar-SA" sz="2800" spc="-1" strike="noStrike">
                <a:solidFill>
                  <a:srgbClr val="000000"/>
                </a:solidFill>
                <a:latin typeface="Gill Sans MT"/>
              </a:rPr>
              <a:t>أي قياس الاختبار أو المقياس لما وضع أصلاً لقياسه. أي أن مقياساً وضع لقياس الذكاء يجب أن يقيس الذكاء ولا يقيس التحصيل مثلاً. </a:t>
            </a:r>
            <a:endParaRPr b="0" lang="en-US" sz="2800" spc="-1" strike="noStrike">
              <a:solidFill>
                <a:srgbClr val="000000"/>
              </a:solidFill>
              <a:latin typeface="Gill Sans MT"/>
            </a:endParaRPr>
          </a:p>
          <a:p>
            <a:pPr marL="261720" indent="-261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 شروط الاختبارات والمقاييس  </a:t>
            </a:r>
            <a:endParaRPr b="0" lang="en-US" sz="3600" spc="-1" strike="noStrike">
              <a:solidFill>
                <a:srgbClr val="464653"/>
              </a:solidFill>
              <a:latin typeface="Bookman Old Style"/>
            </a:endParaRPr>
          </a:p>
        </p:txBody>
      </p:sp>
      <p:sp>
        <p:nvSpPr>
          <p:cNvPr id="429" name=""/>
          <p:cNvSpPr txBox="1"/>
          <p:nvPr/>
        </p:nvSpPr>
        <p:spPr>
          <a:xfrm>
            <a:off x="263520" y="1447560"/>
            <a:ext cx="8346960" cy="4800600"/>
          </a:xfrm>
          <a:prstGeom prst="rect">
            <a:avLst/>
          </a:prstGeom>
          <a:noFill/>
          <a:ln w="0">
            <a:noFill/>
          </a:ln>
        </p:spPr>
        <p:txBody>
          <a:bodyPr anchor="t">
            <a:normAutofit/>
          </a:bodyPr>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ثبات:</a:t>
            </a:r>
            <a:r>
              <a:rPr b="0" lang="ar-SA" sz="2800" spc="-1" strike="noStrike">
                <a:solidFill>
                  <a:srgbClr val="c00000"/>
                </a:solidFill>
                <a:latin typeface="Gill Sans MT"/>
              </a:rPr>
              <a:t> </a:t>
            </a:r>
            <a:r>
              <a:rPr b="0" lang="ar-SA" sz="2800" spc="-1" strike="noStrike">
                <a:solidFill>
                  <a:srgbClr val="000000"/>
                </a:solidFill>
                <a:latin typeface="Gill Sans MT"/>
              </a:rPr>
              <a:t>يقصد به ثبات نتائج الاختبار أو المقياس تقريباً في المرات المختلفة التي يجري فيها على نفس الفرد أو الأفراد، أو إعطاء نفس النتائج تقريباً عندما تجري صور متماثلة أو متكافئة منه. </a:t>
            </a:r>
            <a:endParaRPr b="0" lang="en-US" sz="2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تقنين:</a:t>
            </a:r>
            <a:r>
              <a:rPr b="0" lang="ar-SA" sz="2800" spc="-1" strike="noStrike">
                <a:solidFill>
                  <a:srgbClr val="c00000"/>
                </a:solidFill>
                <a:latin typeface="Gill Sans MT"/>
              </a:rPr>
              <a:t> </a:t>
            </a:r>
            <a:r>
              <a:rPr b="0" lang="ar-SA" sz="2800" spc="-1" strike="noStrike">
                <a:solidFill>
                  <a:srgbClr val="000000"/>
                </a:solidFill>
                <a:latin typeface="Gill Sans MT"/>
              </a:rPr>
              <a:t>يقصد به إعداد معايير للاختبار أو المقياس حتى تتحول الدرجات الخام إلى درجات معيارية تمكن من مقارنة العميل برفاق سنه وجنسه وثقافته. </a:t>
            </a:r>
            <a:endParaRPr b="0" lang="en-US" sz="2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وسائل وليست غايات </a:t>
            </a:r>
            <a:endParaRPr b="0" lang="en-US" sz="3600" spc="-1" strike="noStrike">
              <a:solidFill>
                <a:srgbClr val="464653"/>
              </a:solidFill>
              <a:latin typeface="Bookman Old Style"/>
            </a:endParaRPr>
          </a:p>
        </p:txBody>
      </p:sp>
      <p:sp>
        <p:nvSpPr>
          <p:cNvPr id="359" name=""/>
          <p:cNvSpPr txBox="1"/>
          <p:nvPr/>
        </p:nvSpPr>
        <p:spPr>
          <a:xfrm>
            <a:off x="263520" y="1600200"/>
            <a:ext cx="8423280" cy="4495680"/>
          </a:xfrm>
          <a:prstGeom prst="rect">
            <a:avLst/>
          </a:prstGeom>
          <a:noFill/>
          <a:ln w="0">
            <a:noFill/>
          </a:ln>
        </p:spPr>
        <p:txBody>
          <a:bodyPr anchor="t">
            <a:normAutofit fontScale="87000"/>
          </a:bodyPr>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ن جمع المعلومات ، يجب التنبيه إلى ضرورة اعتبارها وسائل لفهم ومساعدة العميل وليست غايات في حد ذاتها ، حيث أن بعض الأخصائيين يستخدمون وسائل جمع المعلومات كغايات في حد ذاتها . كاستعراض لمهارة المرشد ، وتودع في الملفات ، وعندما تجري الإختبارات ولا يستفاد نتائجها في التوجيه والإرشاد.</a:t>
            </a:r>
            <a:endParaRPr b="0" lang="en-US" sz="2800" spc="-1" strike="noStrike">
              <a:solidFill>
                <a:srgbClr val="000000"/>
              </a:solidFill>
              <a:latin typeface="Gill Sans MT"/>
            </a:endParaRPr>
          </a:p>
          <a:p>
            <a:pPr marL="237240" indent="-23724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ill Sans MT"/>
              </a:rPr>
              <a:t>تعدد الوسائل :</a:t>
            </a:r>
            <a:endParaRPr b="0" lang="en-US" sz="2800" spc="-1" strike="noStrike">
              <a:solidFill>
                <a:srgbClr val="000000"/>
              </a:solidFill>
              <a:latin typeface="Gill Sans MT"/>
            </a:endParaRPr>
          </a:p>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نوع وسائل جمع المعلومات اللازمة لعملية الإرشاد ، ولذلك فإن استخدام عدد من هذه الوسائل سهل وممكن ، وذلك للتثبيت من المعلومات ، والتأكد من دقتها وموضوعيتها. هذا إلى جانب أن بعض وسائل الإرشاد تقوم على التقدير الكمى ، وبعضها يقوم على التقدير الكيفي ، وبعضها يتسم بالموضوعية وبعضها على الذاتية . </a:t>
            </a:r>
            <a:endParaRPr b="0" lang="en-US" sz="2800" spc="-1" strike="noStrike">
              <a:solidFill>
                <a:srgbClr val="000000"/>
              </a:solidFill>
              <a:latin typeface="Gill Sans MT"/>
            </a:endParaRPr>
          </a:p>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 شروط الاختبارات والمقاييس </a:t>
            </a:r>
            <a:endParaRPr b="0" lang="en-US" sz="3600" spc="-1" strike="noStrike">
              <a:solidFill>
                <a:srgbClr val="464653"/>
              </a:solidFill>
              <a:latin typeface="Bookman Old Style"/>
            </a:endParaRPr>
          </a:p>
        </p:txBody>
      </p:sp>
      <p:sp>
        <p:nvSpPr>
          <p:cNvPr id="431" name=""/>
          <p:cNvSpPr txBox="1"/>
          <p:nvPr/>
        </p:nvSpPr>
        <p:spPr>
          <a:xfrm>
            <a:off x="457200" y="1219320"/>
            <a:ext cx="8229600" cy="493704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موضوعية:</a:t>
            </a:r>
            <a:r>
              <a:rPr b="0" lang="ar-SA" sz="2800" spc="-1" strike="noStrike">
                <a:solidFill>
                  <a:srgbClr val="c00000"/>
                </a:solidFill>
                <a:latin typeface="Gill Sans MT"/>
              </a:rPr>
              <a:t> </a:t>
            </a:r>
            <a:r>
              <a:rPr b="0" lang="ar-SA" sz="2800" spc="-1" strike="noStrike">
                <a:solidFill>
                  <a:srgbClr val="000000"/>
                </a:solidFill>
                <a:latin typeface="Gill Sans MT"/>
              </a:rPr>
              <a:t>أي أن يكون هناك معنى وتفسير موحد لوحدات الاختبار وأسئلته، يؤدي إلى فهم المقصود منها. ويمكن التأكد من ذلك عن طريق دراسة الوحدات عندما يجري الاختبار تجريبياً للاستطلاع. كذلك تتضمن الموضوعية التخلص إلى أقصى حد ممكن من الذاتية والتحيز الشخصي والاختلاف في التصحيح وتقدير الدرجات وتفسير النتائج.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إظهار الفروق الفردية: </a:t>
            </a:r>
            <a:r>
              <a:rPr b="0" lang="ar-SA" sz="2800" spc="-1" strike="noStrike">
                <a:solidFill>
                  <a:srgbClr val="000000"/>
                </a:solidFill>
                <a:latin typeface="Gill Sans MT"/>
              </a:rPr>
              <a:t>يجب أن يكون الاختبار مظهراً للفروق الفردية ومميزاً لكل من الذين يكونون أعلى وأقل من العاديين. ويتطلب ذلك تنوع الأسئلة والوحدات بين السهولة والصعوبة وتدرجها وتغطيتها للسمات بحيث تظهر الفروق الفردية. ويمكن معرفة ذلك بدراسة معامل سهولة الوحدات.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 شروط الاختبارات والمقاييس </a:t>
            </a:r>
            <a:endParaRPr b="0" lang="en-US" sz="3600" spc="-1" strike="noStrike">
              <a:solidFill>
                <a:srgbClr val="464653"/>
              </a:solidFill>
              <a:latin typeface="Bookman Old Style"/>
            </a:endParaRPr>
          </a:p>
        </p:txBody>
      </p:sp>
      <p:sp>
        <p:nvSpPr>
          <p:cNvPr id="433" name=""/>
          <p:cNvSpPr txBox="1"/>
          <p:nvPr/>
        </p:nvSpPr>
        <p:spPr>
          <a:xfrm>
            <a:off x="457200" y="1219320"/>
            <a:ext cx="8229600" cy="4937040"/>
          </a:xfrm>
          <a:prstGeom prst="rect">
            <a:avLst/>
          </a:prstGeom>
          <a:noFill/>
          <a:ln w="0">
            <a:noFill/>
          </a:ln>
        </p:spPr>
        <p:txBody>
          <a:bodyPr anchor="t">
            <a:normAutofit/>
          </a:bodyPr>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سهولة الاستخدام: </a:t>
            </a:r>
            <a:r>
              <a:rPr b="0" lang="ar-SA" sz="2800" spc="-1" strike="noStrike">
                <a:solidFill>
                  <a:srgbClr val="000000"/>
                </a:solidFill>
                <a:latin typeface="Gill Sans MT"/>
              </a:rPr>
              <a:t>يقصد بذلك سهولة الإجراء والتصحيح وتفسير النتائج. ويتطلب ذلك أن يكون للاختبار كراسة تعليمات يحدد فيها طريقة الإجراء ومفتاح للتصحيح ...إلخ.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تعدد الاختبارات:</a:t>
            </a:r>
            <a:r>
              <a:rPr b="0" lang="ar-SA" sz="2800" spc="-1" strike="noStrike">
                <a:solidFill>
                  <a:srgbClr val="c00000"/>
                </a:solidFill>
                <a:latin typeface="Gill Sans MT"/>
              </a:rPr>
              <a:t> </a:t>
            </a:r>
            <a:r>
              <a:rPr b="0" lang="ar-SA" sz="2800" spc="-1" strike="noStrike">
                <a:solidFill>
                  <a:srgbClr val="000000"/>
                </a:solidFill>
                <a:latin typeface="Gill Sans MT"/>
              </a:rPr>
              <a:t>يجب الاعتماد على أكثر من اختبار واحد في الإرشاد النفسي، لأن الاقتصار على اختبار واحد والاكتفاء به قد يكون مضللا.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اعتدال في الاختبارات:</a:t>
            </a:r>
            <a:r>
              <a:rPr b="0" lang="ar-SA" sz="2800" spc="-1" strike="noStrike">
                <a:solidFill>
                  <a:srgbClr val="c00000"/>
                </a:solidFill>
                <a:latin typeface="Gill Sans MT"/>
              </a:rPr>
              <a:t> </a:t>
            </a:r>
            <a:r>
              <a:rPr b="0" lang="ar-SA" sz="2800" spc="-1" strike="noStrike">
                <a:solidFill>
                  <a:srgbClr val="000000"/>
                </a:solidFill>
                <a:latin typeface="Gill Sans MT"/>
              </a:rPr>
              <a:t>يجب الاعتدال وعدم التمادي في إجراء الاختبارات، لأن كثرة الاختبارات قد تسبب مقاومة من جانب العميل، من مظاهرها الرفض والكذب والتلفيق، وأيضاً شك العميل في قيمة الاختبارات والمقاييس وفي دلالة نتائجها. </a:t>
            </a:r>
            <a:endParaRPr b="0" lang="en-US" sz="2800" spc="-1" strike="noStrike">
              <a:solidFill>
                <a:srgbClr val="000000"/>
              </a:solidFill>
              <a:latin typeface="Gill Sans MT"/>
            </a:endParaRPr>
          </a:p>
        </p:txBody>
      </p:sp>
      <p:sp>
        <p:nvSpPr>
          <p:cNvPr id="434" name="Rectangle 4"/>
          <p:cNvSpPr/>
          <p:nvPr/>
        </p:nvSpPr>
        <p:spPr>
          <a:xfrm>
            <a:off x="228600" y="1600200"/>
            <a:ext cx="8458200" cy="44974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الاختبارات والمقاييس</a:t>
            </a:r>
            <a:endParaRPr b="0" lang="en-US" sz="3600" spc="-1" strike="noStrike">
              <a:solidFill>
                <a:srgbClr val="464653"/>
              </a:solidFill>
              <a:latin typeface="Bookman Old Style"/>
            </a:endParaRPr>
          </a:p>
        </p:txBody>
      </p:sp>
      <p:sp>
        <p:nvSpPr>
          <p:cNvPr id="436"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rPr>
              <a:t>الاحتراس من أثر الهالة</a:t>
            </a:r>
            <a:r>
              <a:rPr b="0" lang="ar-SA" sz="2800" spc="-1" strike="noStrike">
                <a:solidFill>
                  <a:srgbClr val="7030a0"/>
                </a:solidFill>
                <a:latin typeface="Gill Sans MT"/>
              </a:rPr>
              <a:t>:</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جب الاحتراس من أثر الهالة عند استخدام الاختبارات والمقاييس وفي التقييم النفسي بصفة عامة. ويقصد بأثر الهالة ميل الفاحص إلى أن يقيم المفحوص متأثراً بفكرة عامة أو انطباع عام عنه على أنه حسن أو ردئ أو أعلى من المتوسط أو دون المتوسط.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Bookman Old Style"/>
              </a:rPr>
              <a:t>إجراء الاختبارات والمقاييس</a:t>
            </a:r>
            <a:endParaRPr b="0" lang="en-US" sz="4800" spc="-1" strike="noStrike">
              <a:solidFill>
                <a:srgbClr val="464653"/>
              </a:solidFill>
              <a:latin typeface="Bookman Old Style"/>
            </a:endParaRPr>
          </a:p>
        </p:txBody>
      </p:sp>
      <p:sp>
        <p:nvSpPr>
          <p:cNvPr id="438" name=""/>
          <p:cNvSpPr txBox="1"/>
          <p:nvPr/>
        </p:nvSpPr>
        <p:spPr>
          <a:xfrm>
            <a:off x="457200" y="1600200"/>
            <a:ext cx="8229600" cy="4983120"/>
          </a:xfrm>
          <a:prstGeom prst="rect">
            <a:avLst/>
          </a:prstGeom>
          <a:noFill/>
          <a:ln w="0">
            <a:noFill/>
          </a:ln>
        </p:spPr>
        <p:txBody>
          <a:bodyPr anchor="t">
            <a:normAutofit fontScale="93000"/>
          </a:bodyPr>
          <a:p>
            <a:pPr marL="253440" indent="-253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Gill Sans MT"/>
              </a:rPr>
              <a:t>يتطلب إجراء الاختبارات والمقاييس النفسية مراعاة بعض الأمور الأساسية وهذه الأمور ما يلي: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ختيار الاختبارات: </a:t>
            </a:r>
            <a:r>
              <a:rPr b="0" lang="ar-SA" sz="2800" spc="-1" strike="noStrike">
                <a:solidFill>
                  <a:srgbClr val="000000"/>
                </a:solidFill>
                <a:latin typeface="Gill Sans MT"/>
              </a:rPr>
              <a:t>يجب اختيار أنسب الاختبارات والمقاييس النفسية  لتطبيقه حسب ما يراد قياسه وحسب عمر العميل وجنسه ودرجة ثقافته وحسب الموقف والوقت المتاح وحسب مجال الإرشاد. وتعتبر عملية الاختيار مهارة أساسية يجب أن يحصلها المرشد حتى يستطيع أن يحصل على أفضل النتائج, ويختار المرشد أقل عدد ممكن من الاختبارات والمقاييس التي تغطي أكبر مساحة ممكنة من السلوك، و تتميز بأكبر قدر من الصدق والثبات وسهولة الاستخدام.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أخصائي: </a:t>
            </a:r>
            <a:r>
              <a:rPr b="0" lang="ar-SA" sz="2800" spc="-1" strike="noStrike">
                <a:solidFill>
                  <a:srgbClr val="000000"/>
                </a:solidFill>
                <a:latin typeface="Gill Sans MT"/>
              </a:rPr>
              <a:t>يتطلب أن يتوفر لدى الإخصائي التدريب والخبرة في استخدام الاختبارات والمقاييس بصفة عامة وفي بعض أنواعها بصفة خاصة مثل الاختبارات الإسقاطية والاختبارات العملية واستخدام الأجهزة.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إجراء الاختبارات والمقياس</a:t>
            </a:r>
            <a:endParaRPr b="0" lang="en-US" sz="3600" spc="-1" strike="noStrike">
              <a:solidFill>
                <a:srgbClr val="464653"/>
              </a:solidFill>
              <a:latin typeface="Bookman Old Style"/>
            </a:endParaRPr>
          </a:p>
        </p:txBody>
      </p:sp>
      <p:sp>
        <p:nvSpPr>
          <p:cNvPr id="440" name=""/>
          <p:cNvSpPr txBox="1"/>
          <p:nvPr/>
        </p:nvSpPr>
        <p:spPr>
          <a:xfrm>
            <a:off x="457200" y="1646280"/>
            <a:ext cx="8229600" cy="4906800"/>
          </a:xfrm>
          <a:prstGeom prst="rect">
            <a:avLst/>
          </a:prstGeom>
          <a:noFill/>
          <a:ln w="0">
            <a:noFill/>
          </a:ln>
        </p:spPr>
        <p:txBody>
          <a:bodyPr anchor="t">
            <a:normAutofit fontScale="88000"/>
          </a:bodyPr>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مفحوصون: </a:t>
            </a:r>
            <a:r>
              <a:rPr b="0" lang="ar-SA" sz="2800" spc="-1" strike="noStrike">
                <a:solidFill>
                  <a:srgbClr val="000000"/>
                </a:solidFill>
                <a:latin typeface="Gill Sans MT"/>
              </a:rPr>
              <a:t>يجب إثارة دافعية العميل لأخذ الاختبارات، واختيار الوقت المناسب له. وفي حالة الإجراء الجماعي كلما صغر عدد المفحوصين كلما كان الوضع أفضل. وأفضل أداء هو الأداء الفردي. </a:t>
            </a:r>
            <a:endParaRPr b="0" lang="en-US" sz="2800" spc="-1" strike="noStrike">
              <a:solidFill>
                <a:srgbClr val="000000"/>
              </a:solidFill>
              <a:latin typeface="Gill Sans MT"/>
            </a:endParaRPr>
          </a:p>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مكان: </a:t>
            </a:r>
            <a:r>
              <a:rPr b="0" lang="ar-SA" sz="2800" spc="-1" strike="noStrike">
                <a:solidFill>
                  <a:srgbClr val="000000"/>
                </a:solidFill>
                <a:latin typeface="Gill Sans MT"/>
              </a:rPr>
              <a:t>يحسن أن يكون إجراء الاختبارات والمقاييس في (معمل). ويجب مراعاة أمور ضرورية مثل المقاعد المريحة والإضاءة الكافية والتهوية المناسبة...إلخ. </a:t>
            </a:r>
            <a:endParaRPr b="0" lang="en-US" sz="2800" spc="-1" strike="noStrike">
              <a:solidFill>
                <a:srgbClr val="000000"/>
              </a:solidFill>
              <a:latin typeface="Gill Sans MT"/>
            </a:endParaRPr>
          </a:p>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مناخ النفسي: </a:t>
            </a:r>
            <a:r>
              <a:rPr b="0" lang="ar-SA" sz="2800" spc="-1" strike="noStrike">
                <a:solidFill>
                  <a:srgbClr val="000000"/>
                </a:solidFill>
                <a:latin typeface="Gill Sans MT"/>
              </a:rPr>
              <a:t>يجب تهيئة مناخ نفسي مناسب لإجراء الاختبارات والمقاييس بحيث تكون الحالة النفسية للعميل مناسبة والظروف المحيطة به من حيث الزمان والمكان...إلخ</a:t>
            </a:r>
            <a:endParaRPr b="0" lang="en-US" sz="2800" spc="-1" strike="noStrike">
              <a:solidFill>
                <a:srgbClr val="000000"/>
              </a:solidFill>
              <a:latin typeface="Gill Sans MT"/>
            </a:endParaRPr>
          </a:p>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إجراء: </a:t>
            </a:r>
            <a:r>
              <a:rPr b="0" lang="ar-SA" sz="2800" spc="-1" strike="noStrike">
                <a:solidFill>
                  <a:srgbClr val="000000"/>
                </a:solidFill>
                <a:latin typeface="Gill Sans MT"/>
              </a:rPr>
              <a:t>في إجراء الاختبارات والمقاييس يجب الالتزام بتعليماتها. </a:t>
            </a:r>
            <a:endParaRPr b="0" lang="en-US" sz="2800" spc="-1" strike="noStrike">
              <a:solidFill>
                <a:srgbClr val="000000"/>
              </a:solidFill>
              <a:latin typeface="Gill Sans MT"/>
            </a:endParaRPr>
          </a:p>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نتائج: </a:t>
            </a:r>
            <a:r>
              <a:rPr b="0" lang="ar-SA" sz="2800" spc="-1" strike="noStrike">
                <a:solidFill>
                  <a:srgbClr val="000000"/>
                </a:solidFill>
                <a:latin typeface="Gill Sans MT"/>
              </a:rPr>
              <a:t>بعد إجراء الاختبارات والمقاييس يتم تصحيحها وتقرير نتائجها في ضوء المعايير. ويجب أن يعرف العميل نتائج الاختبارات التي أجريت عليه. وتعرض النتائج الأفضل التي حصل فيها العميل على درجات عالية قبل تلك التي حصل فيها على درجات أقل.</a:t>
            </a:r>
            <a:endParaRPr b="0" lang="en-US" sz="2800" spc="-1" strike="noStrike">
              <a:solidFill>
                <a:srgbClr val="000000"/>
              </a:solidFill>
              <a:latin typeface="Gill Sans MT"/>
            </a:endParaRPr>
          </a:p>
          <a:p>
            <a:pPr marL="240120" indent="-2401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0120" indent="-24012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93958"/>
                </a:solidFill>
                <a:latin typeface="Bookman Old Style"/>
              </a:rPr>
              <a:t>تابع- إجراء الاختبارات والمقياس</a:t>
            </a:r>
            <a:endParaRPr b="0" lang="en-US" sz="3600" spc="-1" strike="noStrike">
              <a:solidFill>
                <a:srgbClr val="464653"/>
              </a:solidFill>
              <a:latin typeface="Bookman Old Style"/>
            </a:endParaRPr>
          </a:p>
        </p:txBody>
      </p:sp>
      <p:sp>
        <p:nvSpPr>
          <p:cNvPr id="442" name=""/>
          <p:cNvSpPr txBox="1"/>
          <p:nvPr/>
        </p:nvSpPr>
        <p:spPr>
          <a:xfrm>
            <a:off x="457200" y="1219320"/>
            <a:ext cx="8229600" cy="493704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تفسير النتائج: </a:t>
            </a:r>
            <a:r>
              <a:rPr b="0" lang="ar-SA" sz="2800" spc="-1" strike="noStrike">
                <a:solidFill>
                  <a:srgbClr val="000000"/>
                </a:solidFill>
                <a:latin typeface="Gill Sans MT"/>
              </a:rPr>
              <a:t>بعد تصحيح الاختبارات والمقاييس وتقرير نتائجها لابد من تحليل هذه النتائج. ويجب أن يكون المرشد موضوعياً وعملياً في تفسيره للنتائج. ويجب أن يكون تفسير النتائج في ضوء بعضها البعض وبالاستعانة بالمعلومات التي يتم جمعها بوسائل جمع المعلومات الأخرى. كذلك يجب ألا يعمم الأخصائي أكثر من اللازم وهو يفسر نتائج الاختبارات والمقاييس حتى لا يخرج كثيراً عن حدود التفسير. ويحسن أيضاً أن يستعين المرشد بالعميل في تفسير النتائج. </a:t>
            </a:r>
            <a:endParaRPr b="0" lang="en-US" sz="2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Bookman Old Style"/>
              </a:rPr>
              <a:t>أنواع الاختبارات والمقاييس</a:t>
            </a:r>
            <a:endParaRPr b="0" lang="en-US" sz="3200" spc="-1" strike="noStrike">
              <a:solidFill>
                <a:srgbClr val="464653"/>
              </a:solidFill>
              <a:latin typeface="Bookman Old Style"/>
            </a:endParaRPr>
          </a:p>
        </p:txBody>
      </p:sp>
      <p:sp>
        <p:nvSpPr>
          <p:cNvPr id="444" name=""/>
          <p:cNvSpPr txBox="1"/>
          <p:nvPr/>
        </p:nvSpPr>
        <p:spPr>
          <a:xfrm>
            <a:off x="457200" y="1646280"/>
            <a:ext cx="8229600" cy="4983120"/>
          </a:xfrm>
          <a:prstGeom prst="rect">
            <a:avLst/>
          </a:prstGeom>
          <a:noFill/>
          <a:ln w="0">
            <a:noFill/>
          </a:ln>
        </p:spPr>
        <p:txBody>
          <a:bodyPr anchor="t">
            <a:normAutofit/>
          </a:bodyPr>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تنوع الاختبارات والمقاييس فنجد منها: </a:t>
            </a:r>
            <a:endParaRPr b="0" lang="en-US" sz="26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ذكاء بأنواعها المختلفة.</a:t>
            </a:r>
            <a:endParaRPr b="0" lang="en-US" sz="26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استعدادات والقدرات العقلية. </a:t>
            </a:r>
            <a:endParaRPr b="0" lang="en-US" sz="26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التحصيل الدراسي بأنواعها التشخيصية والتنبؤية والتدريبية. </a:t>
            </a:r>
            <a:endParaRPr b="0" lang="en-US" sz="26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شخصية بأنواعها.</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ختبارات الميول.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القيم.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اتجاهات.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تشخيص.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التوافق النفسي.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الصحة النفسية.</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الإرشاد النفسي. </a:t>
            </a:r>
            <a:endParaRPr b="0" lang="en-US" sz="2600" spc="-1" strike="noStrike">
              <a:solidFill>
                <a:srgbClr val="000000"/>
              </a:solidFill>
              <a:latin typeface="Gill Sans MT"/>
            </a:endParaRPr>
          </a:p>
          <a:p>
            <a:pPr marL="272880" indent="-272880" algn="r" rtl="1">
              <a:lnSpc>
                <a:spcPct val="6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ختبارات ومقاييس أخرى. </a:t>
            </a:r>
            <a:endParaRPr b="0" lang="en-US" sz="26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الفحوص والبحوث</a:t>
            </a:r>
            <a:endParaRPr b="0" lang="en-US" sz="3200" spc="-1" strike="noStrike">
              <a:solidFill>
                <a:srgbClr val="464653"/>
              </a:solidFill>
              <a:latin typeface="Bookman Old Style"/>
            </a:endParaRPr>
          </a:p>
        </p:txBody>
      </p:sp>
      <p:sp>
        <p:nvSpPr>
          <p:cNvPr id="446" name=""/>
          <p:cNvSpPr txBox="1"/>
          <p:nvPr/>
        </p:nvSpPr>
        <p:spPr>
          <a:xfrm>
            <a:off x="263160" y="1598400"/>
            <a:ext cx="8651880" cy="4802040"/>
          </a:xfrm>
          <a:prstGeom prst="rect">
            <a:avLst/>
          </a:prstGeom>
          <a:noFill/>
          <a:ln w="0">
            <a:noFill/>
          </a:ln>
        </p:spPr>
        <p:txBody>
          <a:bodyPr anchor="t">
            <a:normAutofit fontScale="94000"/>
          </a:bodyPr>
          <a:p>
            <a:pPr marL="256320" indent="-2563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فحوص والبحوث وسائل متخصصة منظمة لجمع المعلومات الخاصة اللازمة لعملية الإرشاد النفسي، ويقوم بها أخصائيون في الميدان النفسي والاجتماعي والطبي، يدعم بعضها بعضاً، وتنتهي عادة بتقارير تلخص أهم ما توصل إليه الفاحص أو الباحث نتيجة للفحص أو البحث الذي قام به مع العميل أو عنه. </a:t>
            </a:r>
            <a:endParaRPr b="0" lang="en-US" sz="2400" spc="-1" strike="noStrike">
              <a:solidFill>
                <a:srgbClr val="000000"/>
              </a:solidFill>
              <a:latin typeface="Gill Sans MT"/>
            </a:endParaRPr>
          </a:p>
          <a:p>
            <a:pPr marL="256320" indent="-2563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ill Sans MT"/>
              </a:rPr>
              <a:t>أنواع الفحوصات والبحوث :</a:t>
            </a:r>
            <a:r>
              <a:rPr b="1" lang="ar-SA" sz="2400" spc="-1" strike="noStrike">
                <a:solidFill>
                  <a:srgbClr val="c00000"/>
                </a:solidFill>
                <a:latin typeface="Gill Sans MT"/>
              </a:rPr>
              <a:t> </a:t>
            </a:r>
            <a:endParaRPr b="0" lang="en-US" sz="2400" spc="-1" strike="noStrike">
              <a:solidFill>
                <a:srgbClr val="000000"/>
              </a:solidFill>
              <a:latin typeface="Gill Sans MT"/>
            </a:endParaRPr>
          </a:p>
          <a:p>
            <a:pPr marL="256320" indent="-256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هم أنواع الفحوص والبحوث اللازمة لعملية الإرشاد النفسي مايلي: </a:t>
            </a:r>
            <a:endParaRPr b="0" lang="en-US" sz="2400" spc="-1" strike="noStrike">
              <a:solidFill>
                <a:srgbClr val="000000"/>
              </a:solidFill>
              <a:latin typeface="Gill Sans MT"/>
            </a:endParaRPr>
          </a:p>
          <a:p>
            <a:pPr marL="256320" indent="-256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endParaRPr b="0" lang="en-US" sz="2400" spc="-1" strike="noStrike">
              <a:solidFill>
                <a:srgbClr val="000000"/>
              </a:solidFill>
              <a:latin typeface="Gill Sans MT"/>
            </a:endParaRPr>
          </a:p>
          <a:p>
            <a:pPr marL="256320" indent="-256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7030a0"/>
                </a:solidFill>
                <a:uFillTx/>
                <a:latin typeface="Gill Sans MT"/>
              </a:rPr>
              <a:t>- الفحص النفسي: </a:t>
            </a:r>
            <a:r>
              <a:rPr b="0" lang="ar-SA" sz="2400" spc="-1" strike="noStrike">
                <a:solidFill>
                  <a:srgbClr val="000000"/>
                </a:solidFill>
                <a:latin typeface="Gill Sans MT"/>
              </a:rPr>
              <a:t>هو وسيلة للحصول على المعلومات. ويقوم به الأخصائي النفسي أو المرشد ليستفسر عن آخر فحص نفسي، والأمراض النفسية السابقة، والأمراض النفسية في الأسرة. ويتم قياس الذكاء وتقدير القدرات العقلية، وسمات الشخصية واضطراباتها. وتحدد الأسباب والأعراض النفسية، واضطرابات السلوك الظاهر، ومظاهر سوء التوافق، مع اهتمام خاص بمفهوم الذات لدى العميل. </a:t>
            </a:r>
            <a:endParaRPr b="0" lang="en-US" sz="2400" spc="-1" strike="noStrike">
              <a:solidFill>
                <a:srgbClr val="000000"/>
              </a:solidFill>
              <a:latin typeface="Gill Sans MT"/>
            </a:endParaRPr>
          </a:p>
          <a:p>
            <a:pPr marL="256320" indent="-2563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Bookman Old Style"/>
              </a:rPr>
              <a:t>تابع- انواع الفحوص والبحوث</a:t>
            </a:r>
            <a:endParaRPr b="0" lang="en-US" sz="3600" spc="-1" strike="noStrike">
              <a:solidFill>
                <a:srgbClr val="464653"/>
              </a:solidFill>
              <a:latin typeface="Bookman Old Style"/>
            </a:endParaRPr>
          </a:p>
        </p:txBody>
      </p:sp>
      <p:sp>
        <p:nvSpPr>
          <p:cNvPr id="448" name=""/>
          <p:cNvSpPr txBox="1"/>
          <p:nvPr/>
        </p:nvSpPr>
        <p:spPr>
          <a:xfrm>
            <a:off x="457200" y="1219320"/>
            <a:ext cx="8229600" cy="4937040"/>
          </a:xfrm>
          <a:prstGeom prst="rect">
            <a:avLst/>
          </a:prstGeom>
          <a:noFill/>
          <a:ln w="0">
            <a:noFill/>
          </a:ln>
        </p:spPr>
        <p:txBody>
          <a:bodyPr anchor="t">
            <a:normAutofit fontScale="96000"/>
          </a:bodyPr>
          <a:p>
            <a:pPr marL="261720" indent="-26172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7030a0"/>
                </a:solidFill>
                <a:uFillTx/>
                <a:latin typeface="Gill Sans MT"/>
              </a:rPr>
              <a:t>البحث الاجتماعي: </a:t>
            </a:r>
            <a:r>
              <a:rPr b="0" lang="ar-SA" sz="2800" spc="-1" strike="noStrike">
                <a:solidFill>
                  <a:srgbClr val="000000"/>
                </a:solidFill>
                <a:latin typeface="Gill Sans MT"/>
              </a:rPr>
              <a:t>و من اهم بنود البحث الاجتماعي الاستقصاء عن آخر بحث اجتماعي، والمشكلات الاجتماعية السابقة في الاسرة، وتركيب الاسرة والعلاقات المتبادلة بين اعضائها ومشكلاتها، ويتناول مايتعلق بالمدرسة بجميع مراحلها واعراض الاضطراب فيها، والمهنة واعراض الاضطراب المهنة، وعلاقة العميل مع كل من الرفاق والجيرة والتوافق الاجتماعي له. و تحديد قيم العميل وميوله والنشاطه الاجتماعي.</a:t>
            </a:r>
            <a:endParaRPr b="0" lang="en-US" sz="2800" spc="-1" strike="noStrike">
              <a:solidFill>
                <a:srgbClr val="000000"/>
              </a:solidFill>
              <a:latin typeface="Gill Sans MT"/>
            </a:endParaRPr>
          </a:p>
          <a:p>
            <a:pPr marL="261720" indent="-26172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فحص الطبي: </a:t>
            </a:r>
            <a:r>
              <a:rPr b="0" lang="ar-SA" sz="2800" spc="-1" strike="noStrike">
                <a:solidFill>
                  <a:srgbClr val="000000"/>
                </a:solidFill>
                <a:latin typeface="Gill Sans MT"/>
              </a:rPr>
              <a:t>يتناول الامراض الجسمية والعمليات الجراحية السابقة والامراض الجسمية في الاسرة ، ويهتم بالحالة الصحية العامة، وفحص اجهزة الجسم .......الخ</a:t>
            </a:r>
            <a:endParaRPr b="0" lang="en-US" sz="28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Bookman Old Style"/>
              </a:rPr>
              <a:t>تابع- انواع الفحوص والبحوث</a:t>
            </a:r>
            <a:endParaRPr b="0" lang="en-US" sz="3600" spc="-1" strike="noStrike">
              <a:solidFill>
                <a:srgbClr val="464653"/>
              </a:solidFill>
              <a:latin typeface="Bookman Old Style"/>
            </a:endParaRPr>
          </a:p>
        </p:txBody>
      </p:sp>
      <p:sp>
        <p:nvSpPr>
          <p:cNvPr id="450"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الفحص العصبي: </a:t>
            </a:r>
            <a:r>
              <a:rPr b="0" lang="ar-SA" sz="2800" spc="-1" strike="noStrike">
                <a:solidFill>
                  <a:srgbClr val="000000"/>
                </a:solidFill>
                <a:latin typeface="Gill Sans MT"/>
              </a:rPr>
              <a:t>يقوم به طبيب متخصص، ويبحث الامراض العصبية السابقة لدى العميل وفي اسرته، واجراء فحص دقيق لتحديد الإصابات في المخ والمخ المتوسط والمخيخ والاعصاب المخية والنخاع الشوكي، مع الاهتمام بفحص المنظاري للعين وقياس المجال البصري الخارجي......الخ</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تقارير الفحوص والبحوث:</a:t>
            </a:r>
            <a:endParaRPr b="0" lang="en-US" sz="28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rPr>
              <a:t>- التقرير النفسي: </a:t>
            </a:r>
            <a:r>
              <a:rPr b="0" lang="ar-SA" sz="2800" spc="-1" strike="noStrike">
                <a:solidFill>
                  <a:srgbClr val="000000"/>
                </a:solidFill>
                <a:latin typeface="Gill Sans MT"/>
              </a:rPr>
              <a:t>يلخص كل المعلومات النفسية التي تم جمعها بكل الوسائل من إجراء الفحص النفسي. ويعده الأخصائي النفسي او المرشد.</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33160"/>
            <a:ext cx="8229600" cy="86364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الشروط العامة لوسائل جمع المعلومات </a:t>
            </a:r>
            <a:endParaRPr b="0" lang="en-US" sz="3200" spc="-1" strike="noStrike">
              <a:solidFill>
                <a:srgbClr val="464653"/>
              </a:solidFill>
              <a:latin typeface="Bookman Old Style"/>
            </a:endParaRPr>
          </a:p>
        </p:txBody>
      </p:sp>
      <p:sp>
        <p:nvSpPr>
          <p:cNvPr id="361" name=""/>
          <p:cNvSpPr txBox="1"/>
          <p:nvPr/>
        </p:nvSpPr>
        <p:spPr>
          <a:xfrm>
            <a:off x="263520" y="1600200"/>
            <a:ext cx="8423280" cy="4495680"/>
          </a:xfrm>
          <a:prstGeom prst="rect">
            <a:avLst/>
          </a:prstGeom>
          <a:noFill/>
          <a:ln w="0">
            <a:noFill/>
          </a:ln>
        </p:spPr>
        <p:txBody>
          <a:bodyPr anchor="t">
            <a:normAutofit fontScale="93000"/>
          </a:bodyPr>
          <a:p>
            <a:pPr marL="253440" indent="-253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شروط العامة لوسائل جمع المعلومات مايلي :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السرية : </a:t>
            </a:r>
            <a:r>
              <a:rPr b="0" lang="ar-SA" sz="2800" spc="-1" strike="noStrike">
                <a:solidFill>
                  <a:srgbClr val="000000"/>
                </a:solidFill>
                <a:latin typeface="Times New Roman"/>
              </a:rPr>
              <a:t>يجب تأكيد سرية وأمن المعلومات التي تجمع عن العميل عن طريق جميع أفراد الوسائل وطمأنته عن طريق تدوينها وتسجيلها في شكل رمزي لا يستطيع قرأته الأفراد العاديون . ولا تستعمل إلا لأغراض الإرشاد النفسي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التخطيط :</a:t>
            </a:r>
            <a:r>
              <a:rPr b="0" lang="ar-SA" sz="2800" spc="-1" strike="noStrike">
                <a:solidFill>
                  <a:srgbClr val="000000"/>
                </a:solidFill>
                <a:latin typeface="Times New Roman"/>
              </a:rPr>
              <a:t>اي التحديد المسبق لاستخدام وسيلة لجمع المعلومات، وتحديد المعلومات المطلوبة، والهدف من الحصول عليها.</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التنظيم: </a:t>
            </a:r>
            <a:r>
              <a:rPr b="0" lang="ar-SA" sz="2800" spc="-1" strike="noStrike">
                <a:solidFill>
                  <a:srgbClr val="000000"/>
                </a:solidFill>
                <a:latin typeface="Times New Roman"/>
              </a:rPr>
              <a:t>يجب تنظيم المعلومات التي يتم الحصول عليها في تسلسل واضح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الدقة : </a:t>
            </a:r>
            <a:r>
              <a:rPr b="0" lang="ar-SA" sz="2800" spc="-1" strike="noStrike">
                <a:solidFill>
                  <a:srgbClr val="000000"/>
                </a:solidFill>
                <a:latin typeface="Times New Roman"/>
              </a:rPr>
              <a:t>ويتضمن ذلك الدقة في استخدام وإجراء الوسيلة ، والدقة في تحري المعلومات، والبعد عن التقديرات  التقريبية أو العامة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Bookman Old Style"/>
              </a:rPr>
              <a:t>تابع- تقارير الفحوص والبحوث</a:t>
            </a:r>
            <a:endParaRPr b="0" lang="en-US" sz="3600" spc="-1" strike="noStrike">
              <a:solidFill>
                <a:srgbClr val="464653"/>
              </a:solidFill>
              <a:latin typeface="Bookman Old Style"/>
            </a:endParaRPr>
          </a:p>
        </p:txBody>
      </p:sp>
      <p:sp>
        <p:nvSpPr>
          <p:cNvPr id="452" name=""/>
          <p:cNvSpPr txBox="1"/>
          <p:nvPr/>
        </p:nvSpPr>
        <p:spPr>
          <a:xfrm>
            <a:off x="457200" y="1219320"/>
            <a:ext cx="8229600" cy="4937040"/>
          </a:xfrm>
          <a:prstGeom prst="rect">
            <a:avLst/>
          </a:prstGeom>
          <a:noFill/>
          <a:ln w="0">
            <a:noFill/>
          </a:ln>
        </p:spPr>
        <p:txBody>
          <a:bodyPr anchor="t">
            <a:normAutofit fontScale="93000"/>
          </a:bodyPr>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rPr>
              <a:t>- التقرير الاجتماعي: </a:t>
            </a:r>
            <a:r>
              <a:rPr b="0" lang="ar-SA" sz="2800" spc="-1" strike="noStrike">
                <a:solidFill>
                  <a:srgbClr val="000000"/>
                </a:solidFill>
                <a:latin typeface="Gill Sans MT"/>
              </a:rPr>
              <a:t>ويلخص نتائج البحث الاجتماعي، ويتضمن تقريراً عن الحالة الاجتماعية للعميل بصفة عامة. وبعده الأخصائي الاجتماعي. </a:t>
            </a:r>
            <a:endParaRPr b="0" lang="en-US" sz="2800" spc="-1" strike="noStrike">
              <a:solidFill>
                <a:srgbClr val="000000"/>
              </a:solidFill>
              <a:latin typeface="Gill Sans MT"/>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rPr>
              <a:t>- التقرير الطبي:</a:t>
            </a:r>
            <a:r>
              <a:rPr b="0" lang="ar-SA" sz="2800" spc="-1" strike="noStrike">
                <a:solidFill>
                  <a:srgbClr val="00b050"/>
                </a:solidFill>
                <a:latin typeface="Gill Sans MT"/>
              </a:rPr>
              <a:t> </a:t>
            </a:r>
            <a:r>
              <a:rPr b="0" lang="ar-SA" sz="2800" spc="-1" strike="noStrike">
                <a:solidFill>
                  <a:srgbClr val="000000"/>
                </a:solidFill>
                <a:latin typeface="Gill Sans MT"/>
              </a:rPr>
              <a:t>وهو وسيلة لتنظيم وتفسير المعلومات الطبية المتعلقة بمشكلة العميل والتي جمعت عن طريق الفحص الطبي. ويعطي التقرير الطبي صورة متكاملة عن التطور الصحي والحالة الصحية العامة للعميل. ويلخص نتائج الفحص الطبي العام والمتخصص للعميل ويتضمن التوصيات الطبية اللازمة للحالة. ويقدم التقرير الطبي الطبيب، وعادة ما يدونه على بطاقة طبية أو ((بطاقة صحية)) خاصة بالعميل في شكل يمكن أن يجمع ويودع في سجل العميل. </a:t>
            </a:r>
            <a:endParaRPr b="0" lang="en-US" sz="28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Bookman Old Style"/>
              </a:rPr>
              <a:t>تابع- تقارير الفحوص والبحوث</a:t>
            </a:r>
            <a:endParaRPr b="0" lang="en-US" sz="3600" spc="-1" strike="noStrike">
              <a:solidFill>
                <a:srgbClr val="464653"/>
              </a:solidFill>
              <a:latin typeface="Bookman Old Style"/>
            </a:endParaRPr>
          </a:p>
        </p:txBody>
      </p:sp>
      <p:sp>
        <p:nvSpPr>
          <p:cNvPr id="454"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rPr>
              <a:t>- </a:t>
            </a:r>
            <a:r>
              <a:rPr b="1" lang="ar-SA" sz="2800" spc="-1" strike="noStrike">
                <a:solidFill>
                  <a:srgbClr val="00b050"/>
                </a:solidFill>
                <a:latin typeface="Gill Sans MT"/>
              </a:rPr>
              <a:t>التقرير العصبي:</a:t>
            </a:r>
            <a:r>
              <a:rPr b="0" lang="ar-SA" sz="2800" spc="-1" strike="noStrike">
                <a:solidFill>
                  <a:srgbClr val="00b050"/>
                </a:solidFill>
                <a:latin typeface="Gill Sans MT"/>
              </a:rPr>
              <a:t> </a:t>
            </a:r>
            <a:r>
              <a:rPr b="0" lang="ar-SA" sz="2800" spc="-1" strike="noStrike">
                <a:solidFill>
                  <a:srgbClr val="000000"/>
                </a:solidFill>
                <a:latin typeface="Gill Sans MT"/>
              </a:rPr>
              <a:t>وهو من أدق التقارير لما يلقيه من أضواء على حالة الجهاز العصبي للعميل والاضطرابات والأمراض العصبية ونتائج الفحوص الطبية المتخصصة وعلاقاتها سلوك العميل ومدى توافقه وصحته النفسية. ويعده طبيب الأعصاب المتخصص. </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مصادر المجتمع </a:t>
            </a:r>
            <a:endParaRPr b="0" lang="en-US" sz="3200" spc="-1" strike="noStrike">
              <a:solidFill>
                <a:srgbClr val="464653"/>
              </a:solidFill>
              <a:latin typeface="Bookman Old Style"/>
            </a:endParaRPr>
          </a:p>
        </p:txBody>
      </p:sp>
      <p:sp>
        <p:nvSpPr>
          <p:cNvPr id="456" name=""/>
          <p:cNvSpPr txBox="1"/>
          <p:nvPr/>
        </p:nvSpPr>
        <p:spPr>
          <a:xfrm>
            <a:off x="457200" y="1219320"/>
            <a:ext cx="8229600" cy="4937040"/>
          </a:xfrm>
          <a:prstGeom prst="rect">
            <a:avLst/>
          </a:prstGeom>
          <a:noFill/>
          <a:ln w="0">
            <a:noFill/>
          </a:ln>
        </p:spPr>
        <p:txBody>
          <a:bodyPr anchor="t">
            <a:normAutofit fontScale="95000"/>
          </a:bodyPr>
          <a:p>
            <a:pPr marL="259200" indent="-2592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rPr>
              <a:t>- ما هي مصادر المجتمع : </a:t>
            </a:r>
            <a:endParaRPr b="0" lang="en-US" sz="2800" spc="-1" strike="noStrike">
              <a:solidFill>
                <a:srgbClr val="000000"/>
              </a:solidFill>
              <a:latin typeface="Gill Sans MT"/>
            </a:endParaRPr>
          </a:p>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ي مصادر أو موارد أو مراجع اجتماعية موجودة في البيئة المحلية، بها معلومات عن العميل، ويمكن الاستفادة بها في عملية الإرشاد النفسي للعميل. ومن هذه المصادر مؤسسات ومنظمات وجماعات منها: الرسمي ، اوغير الرسمي أو الأهلي، متخصص اوغير متخصص. </a:t>
            </a:r>
            <a:endParaRPr b="0" lang="en-US" sz="2800" spc="-1" strike="noStrike">
              <a:solidFill>
                <a:srgbClr val="000000"/>
              </a:solidFill>
              <a:latin typeface="Gill Sans MT"/>
            </a:endParaRPr>
          </a:p>
          <a:p>
            <a:pPr marL="259200" indent="-2592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rPr>
              <a:t>- ومن أهم مصادر المجتمع: </a:t>
            </a:r>
            <a:endParaRPr b="0" lang="en-US" sz="2800" spc="-1" strike="noStrike">
              <a:solidFill>
                <a:srgbClr val="000000"/>
              </a:solidFill>
              <a:latin typeface="Gill Sans MT"/>
            </a:endParaRPr>
          </a:p>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rPr>
              <a:t>الأسرة</a:t>
            </a:r>
            <a:r>
              <a:rPr b="0" lang="ar-SA" sz="2800" spc="-1" strike="noStrike">
                <a:solidFill>
                  <a:srgbClr val="c00000"/>
                </a:solidFill>
                <a:latin typeface="Times New Roman"/>
              </a:rPr>
              <a:t> : </a:t>
            </a:r>
            <a:r>
              <a:rPr b="0" lang="ar-SA" sz="2800" spc="-1" strike="noStrike">
                <a:solidFill>
                  <a:srgbClr val="000000"/>
                </a:solidFill>
                <a:latin typeface="Times New Roman"/>
              </a:rPr>
              <a:t>هي أهم مصادر المجتمع التي يمكن أن تمد المرشد بمعلومات عن حياة العميل في أسرته وعلاقاته الأسرية وتوافقه الأسري ...إلخ. </a:t>
            </a:r>
            <a:endParaRPr b="0" lang="en-US" sz="2800" spc="-1" strike="noStrike">
              <a:solidFill>
                <a:srgbClr val="000000"/>
              </a:solidFill>
              <a:latin typeface="Gill Sans MT"/>
            </a:endParaRPr>
          </a:p>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rPr>
              <a:t>الهيئات التربوية</a:t>
            </a:r>
            <a:r>
              <a:rPr b="0" lang="ar-SA" sz="2800" spc="-1" strike="noStrike">
                <a:solidFill>
                  <a:srgbClr val="c00000"/>
                </a:solidFill>
                <a:latin typeface="Times New Roman"/>
              </a:rPr>
              <a:t> : </a:t>
            </a:r>
            <a:r>
              <a:rPr b="0" lang="ar-SA" sz="2800" spc="-1" strike="noStrike">
                <a:solidFill>
                  <a:srgbClr val="000000"/>
                </a:solidFill>
                <a:latin typeface="Times New Roman"/>
              </a:rPr>
              <a:t>وتضم المدرسة والمنطقة التعليمية أو إدارة التعليم ومدارس رعاية الفئات الخاصة. </a:t>
            </a:r>
            <a:endParaRPr b="0" lang="en-US" sz="2800" spc="-1" strike="noStrike">
              <a:solidFill>
                <a:srgbClr val="000000"/>
              </a:solidFill>
              <a:latin typeface="Gill Sans MT"/>
            </a:endParaRPr>
          </a:p>
          <a:p>
            <a:pPr marL="259200" indent="-25920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العيادات النفسية</a:t>
            </a:r>
            <a:r>
              <a:rPr b="0" lang="ar-SA" sz="2800" spc="-1" strike="noStrike">
                <a:solidFill>
                  <a:srgbClr val="c00000"/>
                </a:solidFill>
                <a:latin typeface="Gill Sans MT"/>
              </a:rPr>
              <a:t> : </a:t>
            </a:r>
            <a:r>
              <a:rPr b="0" lang="ar-SA" sz="2800" spc="-1" strike="noStrike">
                <a:solidFill>
                  <a:srgbClr val="000000"/>
                </a:solidFill>
                <a:latin typeface="Gill Sans MT"/>
              </a:rPr>
              <a:t>للحصول منها على معلومات عن التوافق النفسي والصحة النفسية والمشكلات والأمراض النفسية السابقة والإجراءات العلاجية السابقة للعميل. </a:t>
            </a:r>
            <a:endParaRPr b="0" lang="en-US" sz="2800" spc="-1" strike="noStrike">
              <a:solidFill>
                <a:srgbClr val="000000"/>
              </a:solidFill>
              <a:latin typeface="Gill Sans MT"/>
            </a:endParaRPr>
          </a:p>
          <a:p>
            <a:pPr marL="259200" indent="-2592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9200" indent="-25920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مصادر المجتمع</a:t>
            </a:r>
            <a:endParaRPr b="0" lang="en-US" sz="3200" spc="-1" strike="noStrike">
              <a:solidFill>
                <a:srgbClr val="464653"/>
              </a:solidFill>
              <a:latin typeface="Bookman Old Style"/>
            </a:endParaRPr>
          </a:p>
        </p:txBody>
      </p:sp>
      <p:sp>
        <p:nvSpPr>
          <p:cNvPr id="458" name=""/>
          <p:cNvSpPr txBox="1"/>
          <p:nvPr/>
        </p:nvSpPr>
        <p:spPr>
          <a:xfrm>
            <a:off x="457200" y="1219320"/>
            <a:ext cx="8229600" cy="4937040"/>
          </a:xfrm>
          <a:prstGeom prst="rect">
            <a:avLst/>
          </a:prstGeom>
          <a:noFill/>
          <a:ln w="0">
            <a:noFill/>
          </a:ln>
        </p:spPr>
        <p:txBody>
          <a:bodyPr anchor="t">
            <a:normAutofit fontScale="90000"/>
          </a:bodyPr>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rPr>
              <a:t>المؤسسات الاجتماعية</a:t>
            </a:r>
            <a:r>
              <a:rPr b="0" lang="ar-SA" sz="2400" spc="-1" strike="noStrike">
                <a:solidFill>
                  <a:srgbClr val="c00000"/>
                </a:solidFill>
                <a:latin typeface="Times New Roman"/>
              </a:rPr>
              <a:t>: </a:t>
            </a:r>
            <a:r>
              <a:rPr b="0" lang="ar-SA" sz="2400" spc="-1" strike="noStrike">
                <a:solidFill>
                  <a:srgbClr val="000000"/>
                </a:solidFill>
                <a:latin typeface="Times New Roman"/>
              </a:rPr>
              <a:t>منها ما يتبع وزارة الشؤون الاجتماعية او المؤسسات الاجتماعية الخاصة أو الأهلية أو الخيرية مثل مؤسسات الدفاع الاجتماعي ورعاية الطفولة  ورعاية المعوقين ورعاية الشيوخ المسنين...إلخ. وهي التي يجمعها الأخصائيون الاجتماعيون عن طريق بحوثهم الاجتماعية عن العميل وأسرته ومشكلاته الاجتماعية السابقة والمساعدات والخدمات الاجتماعية التي يتلقاها. </a:t>
            </a:r>
            <a:endParaRPr b="0" lang="en-US" sz="2400" spc="-1" strike="noStrike">
              <a:solidFill>
                <a:srgbClr val="000000"/>
              </a:solidFill>
              <a:latin typeface="Gill Sans MT"/>
            </a:endParaRPr>
          </a:p>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مكاتب العمل</a:t>
            </a:r>
            <a:r>
              <a:rPr b="0" lang="ar-SA" sz="2400" spc="-1" strike="noStrike">
                <a:solidFill>
                  <a:srgbClr val="c00000"/>
                </a:solidFill>
                <a:latin typeface="Gill Sans MT"/>
              </a:rPr>
              <a:t>: </a:t>
            </a:r>
            <a:r>
              <a:rPr b="0" lang="ar-SA" sz="2400" spc="-1" strike="noStrike">
                <a:solidFill>
                  <a:srgbClr val="000000"/>
                </a:solidFill>
                <a:latin typeface="Gill Sans MT"/>
              </a:rPr>
              <a:t>لديها عادة معلومات وافية عن العمل وفرص العمل المتاحة في المجتمع على المستوى المحلي على الأقل. وتشرف مكاتب العمل على تشغيل الشباب لبعض الوقت اثناء العطلات. </a:t>
            </a:r>
            <a:endParaRPr b="0" lang="en-US" sz="2400" spc="-1" strike="noStrike">
              <a:solidFill>
                <a:srgbClr val="000000"/>
              </a:solidFill>
              <a:latin typeface="Gill Sans MT"/>
            </a:endParaRPr>
          </a:p>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rPr>
              <a:t>هيئات رعاية الشباب</a:t>
            </a:r>
            <a:r>
              <a:rPr b="0" lang="ar-SA" sz="2400" spc="-1" strike="noStrike">
                <a:solidFill>
                  <a:srgbClr val="c00000"/>
                </a:solidFill>
                <a:latin typeface="Times New Roman"/>
              </a:rPr>
              <a:t>:</a:t>
            </a:r>
            <a:r>
              <a:rPr b="0" lang="ar-SA" sz="2400" spc="-1" strike="noStrike">
                <a:solidFill>
                  <a:srgbClr val="000000"/>
                </a:solidFill>
                <a:latin typeface="Times New Roman"/>
              </a:rPr>
              <a:t>تقدم خدمات قيمة للشباب مثل المنظمات والنوادي الرياضية وجماعة الكشافة والجوالة ونوادي الأطفال وجمعيات الشبان المسلمين والشبان المسيحيين...إلخ. وفيها من الأخصائيين من يستطيعون تزويد المرشدين بمعلومات قيمة عن السلوك الاجتماعي للعميل وخاصة في وقت فراغه، فلديهم فرصة طيبة لملاحظة العميل في ظروف مختلفة عن ظروف المدرسة أو العمل</a:t>
            </a:r>
            <a:r>
              <a:rPr b="0" lang="en-US" sz="2400" spc="-1" strike="noStrike">
                <a:solidFill>
                  <a:srgbClr val="000000"/>
                </a:solidFill>
                <a:latin typeface="Times New Roman"/>
                <a:ea typeface="Times New Roman"/>
              </a:rPr>
              <a:t> </a:t>
            </a:r>
            <a:endParaRPr b="0" lang="en-US" sz="2400" spc="-1" strike="noStrike">
              <a:solidFill>
                <a:srgbClr val="000000"/>
              </a:solidFill>
              <a:latin typeface="Gill Sans MT"/>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5520" indent="-2455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5520" indent="-24552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مصادر المجتمع</a:t>
            </a:r>
            <a:endParaRPr b="0" lang="en-US" sz="3200" spc="-1" strike="noStrike">
              <a:solidFill>
                <a:srgbClr val="464653"/>
              </a:solidFill>
              <a:latin typeface="Bookman Old Style"/>
            </a:endParaRPr>
          </a:p>
        </p:txBody>
      </p:sp>
      <p:sp>
        <p:nvSpPr>
          <p:cNvPr id="460" name=""/>
          <p:cNvSpPr txBox="1"/>
          <p:nvPr/>
        </p:nvSpPr>
        <p:spPr>
          <a:xfrm>
            <a:off x="457200" y="1219320"/>
            <a:ext cx="8229600" cy="4937040"/>
          </a:xfrm>
          <a:prstGeom prst="rect">
            <a:avLst/>
          </a:prstGeom>
          <a:noFill/>
          <a:ln w="0">
            <a:noFill/>
          </a:ln>
        </p:spPr>
        <p:txBody>
          <a:bodyPr anchor="t">
            <a:normAutofit fontScale="98000"/>
          </a:bodyPr>
          <a:p>
            <a:pPr marL="267120" indent="-2671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نوادي ومركز خدمة البيئة :</a:t>
            </a:r>
            <a:r>
              <a:rPr b="0" lang="ar-SA" sz="2400" spc="-1" strike="noStrike">
                <a:solidFill>
                  <a:srgbClr val="000000"/>
                </a:solidFill>
                <a:latin typeface="Gill Sans MT"/>
              </a:rPr>
              <a:t> تهتم برفاهية الأطفال والشباب وحتى الشيوخ وأسرهم. ويقتضي فيها العميل جزءاً من وقته ويتلقى العديد من خدماتها، ويمكن أن تكون مصدراً للمعلومات عن السلوك الاجتماعي للعميل.</a:t>
            </a:r>
            <a:endParaRPr b="0" lang="en-US" sz="2400" spc="-1" strike="noStrike">
              <a:solidFill>
                <a:srgbClr val="000000"/>
              </a:solidFill>
              <a:latin typeface="Gill Sans MT"/>
            </a:endParaRPr>
          </a:p>
          <a:p>
            <a:pPr marL="267120" indent="-2671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دور العبادة والجماعات الدينية: </a:t>
            </a:r>
            <a:r>
              <a:rPr b="0" lang="ar-SA" sz="2400" spc="-1" strike="noStrike">
                <a:solidFill>
                  <a:srgbClr val="000000"/>
                </a:solidFill>
                <a:latin typeface="Gill Sans MT"/>
              </a:rPr>
              <a:t>ومنها يمكن التعرف على اتجاهات العميل الدينية وسلوك الديني. وتستطيع بعض المؤسسات الدينية تقديم معلومات وخدمات قيمة عن طريق جماعات الشباب الدينية. </a:t>
            </a:r>
            <a:endParaRPr b="0" lang="en-US" sz="2400" spc="-1" strike="noStrike">
              <a:solidFill>
                <a:srgbClr val="000000"/>
              </a:solidFill>
              <a:latin typeface="Gill Sans MT"/>
            </a:endParaRPr>
          </a:p>
          <a:p>
            <a:pPr marL="267120" indent="-2671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المحاكم والسلطات التنفيذية</a:t>
            </a:r>
            <a:r>
              <a:rPr b="0" lang="ar-SA" sz="2400" spc="-1" strike="noStrike">
                <a:solidFill>
                  <a:srgbClr val="c00000"/>
                </a:solidFill>
                <a:latin typeface="Gill Sans MT"/>
              </a:rPr>
              <a:t> : </a:t>
            </a:r>
            <a:r>
              <a:rPr b="0" lang="ar-SA" sz="2400" spc="-1" strike="noStrike">
                <a:solidFill>
                  <a:srgbClr val="000000"/>
                </a:solidFill>
                <a:latin typeface="Gill Sans MT"/>
              </a:rPr>
              <a:t>كمحاكم الأحداث ، ومن السلطات التنفيذية كأقسام ومراكز الشرطة، يمكن الحصول على معلومات هامة وخاصة في مجالات العملاء الجانحين والمنحرفين. ويمكن الاستعانة بالأخصائيين الذين يعملون في هذه الجهات بإشراكهم في مؤتمر الحالة. </a:t>
            </a:r>
            <a:endParaRPr b="0" lang="en-US" sz="2400" spc="-1" strike="noStrike">
              <a:solidFill>
                <a:srgbClr val="000000"/>
              </a:solidFill>
              <a:latin typeface="Gill Sans MT"/>
            </a:endParaRPr>
          </a:p>
          <a:p>
            <a:pPr marL="267120" indent="-2671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المستشفيات</a:t>
            </a:r>
            <a:r>
              <a:rPr b="0" lang="ar-SA" sz="2400" spc="-1" strike="noStrike">
                <a:solidFill>
                  <a:srgbClr val="c00000"/>
                </a:solidFill>
                <a:latin typeface="Gill Sans MT"/>
              </a:rPr>
              <a:t> : </a:t>
            </a:r>
            <a:r>
              <a:rPr b="0" lang="ar-SA" sz="2400" spc="-1" strike="noStrike">
                <a:solidFill>
                  <a:srgbClr val="000000"/>
                </a:solidFill>
                <a:latin typeface="Gill Sans MT"/>
              </a:rPr>
              <a:t>المتسشفيات العامة والمتخصصة في علاج أمراض القلب والصدر والأنف والأذن والحنجرة والجلد ...إلخ. يمكن أن تزود المرشد بمعلومات طبية تكون لديها عن العميل. </a:t>
            </a:r>
            <a:endParaRPr b="0" lang="en-US" sz="2400" spc="-1" strike="noStrike">
              <a:solidFill>
                <a:srgbClr val="000000"/>
              </a:solidFill>
              <a:latin typeface="Gill Sans MT"/>
            </a:endParaRPr>
          </a:p>
          <a:p>
            <a:pPr marL="267120" indent="-2671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7120" indent="-2671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7120" indent="-26712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c0"/>
                </a:solidFill>
                <a:latin typeface="Bookman Old Style"/>
              </a:rPr>
              <a:t>شروط مصادر المجتمع</a:t>
            </a:r>
            <a:endParaRPr b="0" lang="en-US" sz="4000" spc="-1" strike="noStrike">
              <a:solidFill>
                <a:srgbClr val="464653"/>
              </a:solidFill>
              <a:latin typeface="Bookman Old Style"/>
            </a:endParaRPr>
          </a:p>
        </p:txBody>
      </p:sp>
      <p:sp>
        <p:nvSpPr>
          <p:cNvPr id="462" name=""/>
          <p:cNvSpPr txBox="1"/>
          <p:nvPr/>
        </p:nvSpPr>
        <p:spPr>
          <a:xfrm>
            <a:off x="457200" y="1219320"/>
            <a:ext cx="8229600" cy="4937040"/>
          </a:xfrm>
          <a:prstGeom prst="rect">
            <a:avLst/>
          </a:prstGeom>
          <a:noFill/>
          <a:ln w="0">
            <a:noFill/>
          </a:ln>
        </p:spPr>
        <p:txBody>
          <a:bodyPr anchor="t">
            <a:normAutofit fontScale="86000"/>
          </a:bodyPr>
          <a:p>
            <a:pPr marL="2343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a:t>
            </a:r>
            <a:r>
              <a:rPr b="0" lang="ar-SA" sz="2800" spc="-1" strike="noStrike">
                <a:solidFill>
                  <a:srgbClr val="7030a0"/>
                </a:solidFill>
                <a:latin typeface="Gill Sans MT"/>
              </a:rPr>
              <a:t>لنجاح الاتصال بمصادر المجتمع والحصول على المعلومات اللازمة منها، يجب مراعاة الشروط الآتية: </a:t>
            </a:r>
            <a:endParaRPr b="0" lang="en-US" sz="2800" spc="-1" strike="noStrike">
              <a:solidFill>
                <a:srgbClr val="000000"/>
              </a:solidFill>
              <a:latin typeface="Gill Sans MT"/>
            </a:endParaRPr>
          </a:p>
          <a:p>
            <a:pPr marL="234360" indent="-23436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تعرف عليها</a:t>
            </a:r>
            <a:r>
              <a:rPr b="0" lang="ar-SA" sz="2800" spc="-1" strike="noStrike">
                <a:solidFill>
                  <a:srgbClr val="002060"/>
                </a:solidFill>
                <a:latin typeface="Gill Sans MT"/>
              </a:rPr>
              <a:t>: </a:t>
            </a:r>
            <a:r>
              <a:rPr b="0" lang="ar-SA" sz="2800" spc="-1" strike="noStrike">
                <a:solidFill>
                  <a:srgbClr val="000000"/>
                </a:solidFill>
                <a:latin typeface="Gill Sans MT"/>
              </a:rPr>
              <a:t>يجب التعرف الجيد على مصادر المجتمع المتاحة في البيئة المحلية، وتدعيم الاتصال المستمر بها، ومعرفة نوع المعلومات التي يمكن الحصول عليها منها وطبيعة الخدمات التي تقدمها واسم ورقم تليفون الأخصائي الذي يمكن الاتصال به عند الحاجة. </a:t>
            </a:r>
            <a:endParaRPr b="0" lang="en-US" sz="2800" spc="-1" strike="noStrike">
              <a:solidFill>
                <a:srgbClr val="000000"/>
              </a:solidFill>
              <a:latin typeface="Gill Sans MT"/>
            </a:endParaRPr>
          </a:p>
          <a:p>
            <a:pPr marL="234360" indent="-23436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تعريف العميل</a:t>
            </a:r>
            <a:r>
              <a:rPr b="0" lang="ar-SA" sz="2800" spc="-1" strike="noStrike">
                <a:solidFill>
                  <a:srgbClr val="002060"/>
                </a:solidFill>
                <a:latin typeface="Gill Sans MT"/>
              </a:rPr>
              <a:t>: </a:t>
            </a:r>
            <a:r>
              <a:rPr b="0" lang="ar-SA" sz="2800" spc="-1" strike="noStrike">
                <a:solidFill>
                  <a:srgbClr val="000000"/>
                </a:solidFill>
                <a:latin typeface="Gill Sans MT"/>
              </a:rPr>
              <a:t>يجب تعريف العميل بالحاجة إلى معلومات من مصادر البيئة وتحديدها، واستئذانه قبل الاتصال بها بخصوصه. </a:t>
            </a:r>
            <a:endParaRPr b="0" lang="en-US" sz="2800" spc="-1" strike="noStrike">
              <a:solidFill>
                <a:srgbClr val="000000"/>
              </a:solidFill>
              <a:latin typeface="Gill Sans MT"/>
            </a:endParaRPr>
          </a:p>
          <a:p>
            <a:pPr marL="234360" indent="-23436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التأكد من المعلومات</a:t>
            </a:r>
            <a:r>
              <a:rPr b="0" lang="ar-SA" sz="2800" spc="-1" strike="noStrike">
                <a:solidFill>
                  <a:srgbClr val="002060"/>
                </a:solidFill>
                <a:latin typeface="Gill Sans MT"/>
              </a:rPr>
              <a:t>: </a:t>
            </a:r>
            <a:r>
              <a:rPr b="0" lang="ar-SA" sz="2800" spc="-1" strike="noStrike">
                <a:solidFill>
                  <a:srgbClr val="000000"/>
                </a:solidFill>
                <a:latin typeface="Gill Sans MT"/>
              </a:rPr>
              <a:t>وهذا يتطلب التأكد من أن العاملين بها مؤهلون بدرجة كافية تسمح بالثقة في المعلومات التي جمعت بمعرفتهم. </a:t>
            </a:r>
            <a:endParaRPr b="0" lang="en-US" sz="2800" spc="-1" strike="noStrike">
              <a:solidFill>
                <a:srgbClr val="000000"/>
              </a:solidFill>
              <a:latin typeface="Gill Sans MT"/>
            </a:endParaRPr>
          </a:p>
          <a:p>
            <a:pPr marL="234360" indent="-23436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rPr>
              <a:t>تبادل الإفادة: </a:t>
            </a:r>
            <a:r>
              <a:rPr b="0" lang="ar-SA" sz="2800" spc="-1" strike="noStrike">
                <a:solidFill>
                  <a:srgbClr val="000000"/>
                </a:solidFill>
                <a:latin typeface="Gill Sans MT"/>
              </a:rPr>
              <a:t>يجب تبادل الإفادة وتبادل المعلومات والمساعدات والخدمات مع هذه المصادر بحيث لا يقتصر الأمر على الأخذ دون العطاء. </a:t>
            </a:r>
            <a:endParaRPr b="0" lang="en-US" sz="28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Bookman Old Style"/>
              </a:rPr>
              <a:t>السجل القصص</a:t>
            </a:r>
            <a:endParaRPr b="0" lang="en-US" sz="4800" spc="-1" strike="noStrike">
              <a:solidFill>
                <a:srgbClr val="464653"/>
              </a:solidFill>
              <a:latin typeface="Bookman Old Style"/>
            </a:endParaRPr>
          </a:p>
        </p:txBody>
      </p:sp>
      <p:sp>
        <p:nvSpPr>
          <p:cNvPr id="464"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هو تسجيل موضوعي لواقعة أو مشهد من سلوك العميل في الواقع في موقف معين كما هو كقصة واقعية. وقد يليه تعليق، وتفسير لما حدث، ثم توصيات.</a:t>
            </a:r>
            <a:endParaRPr b="0" lang="en-US" sz="24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أما التعليق والتفسير والتوصيات فتكون منفصلة وليست جزءاً من السجل. أي أن الراوى (المرشد) يقص ما شاهد بالضبط في الواقع، شأنه شأن المخبر الصحفي الذي يقص فقط ما شاهده. </a:t>
            </a:r>
            <a:endParaRPr b="0" lang="en-US" sz="24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أنواع السجل القصص. </a:t>
            </a:r>
            <a:r>
              <a:rPr b="0" lang="ar-SA" sz="2400" spc="-1" strike="noStrike">
                <a:solidFill>
                  <a:srgbClr val="000000"/>
                </a:solidFill>
                <a:latin typeface="Gill Sans MT"/>
              </a:rPr>
              <a:t>هناك نوعان رئيسيان للسجل القصص: </a:t>
            </a: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نوع الأول</a:t>
            </a:r>
            <a:r>
              <a:rPr b="0" lang="ar-SA" sz="2400" spc="-1" strike="noStrike">
                <a:solidFill>
                  <a:srgbClr val="000000"/>
                </a:solidFill>
                <a:latin typeface="Gill Sans MT"/>
              </a:rPr>
              <a:t> : يحتوي فقط على الوصف الموضوعي للواقعة بدون تعليق أو تفسير. </a:t>
            </a:r>
            <a:endParaRPr b="0" lang="en-US" sz="24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نوع الثاني</a:t>
            </a:r>
            <a:r>
              <a:rPr b="0" lang="ar-SA" sz="2400" spc="-1" strike="noStrike">
                <a:solidFill>
                  <a:srgbClr val="000000"/>
                </a:solidFill>
                <a:latin typeface="Gill Sans MT"/>
              </a:rPr>
              <a:t> : يحتوي بالإضافة إلى ذلك على تعليق وتفسير وتوصيات. </a:t>
            </a:r>
            <a:endParaRPr b="0" lang="en-US" sz="24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Bookman Old Style"/>
              </a:rPr>
              <a:t>عوامل نجاح السجل القصص</a:t>
            </a:r>
            <a:endParaRPr b="0" lang="en-US" sz="3200" spc="-1" strike="noStrike">
              <a:solidFill>
                <a:srgbClr val="464653"/>
              </a:solidFill>
              <a:latin typeface="Bookman Old Style"/>
            </a:endParaRPr>
          </a:p>
        </p:txBody>
      </p:sp>
      <p:sp>
        <p:nvSpPr>
          <p:cNvPr id="466" name=""/>
          <p:cNvSpPr txBox="1"/>
          <p:nvPr/>
        </p:nvSpPr>
        <p:spPr>
          <a:xfrm>
            <a:off x="457200" y="1219320"/>
            <a:ext cx="8229600" cy="4937040"/>
          </a:xfrm>
          <a:prstGeom prst="rect">
            <a:avLst/>
          </a:prstGeom>
          <a:noFill/>
          <a:ln w="0">
            <a:noFill/>
          </a:ln>
        </p:spPr>
        <p:txBody>
          <a:bodyPr anchor="t">
            <a:normAutofit/>
          </a:bodyPr>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ill Sans MT"/>
              </a:rPr>
              <a:t>يتوقف نجاح السجل القصص على بعض الشروط مثل :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تعدد التسجيلات: </a:t>
            </a:r>
            <a:r>
              <a:rPr b="0" lang="ar-SA" sz="2800" spc="-1" strike="noStrike">
                <a:solidFill>
                  <a:srgbClr val="000000"/>
                </a:solidFill>
                <a:latin typeface="Gill Sans MT"/>
              </a:rPr>
              <a:t>بحيث تغطي عينة من المواقف والخبرات والأحداث وتعطى صورة متعددة الجوانب للشخصية والسلوك. ويلاحظ أن سجلاً قصصياً واحداً لا يكفي ولا يمكن أن يعتمد عليه في فهم العميل وشخصيته وسلوكه.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حسن الاختيار: </a:t>
            </a:r>
            <a:r>
              <a:rPr b="0" lang="ar-SA" sz="2800" spc="-1" strike="noStrike">
                <a:solidFill>
                  <a:srgbClr val="000000"/>
                </a:solidFill>
                <a:latin typeface="Gill Sans MT"/>
              </a:rPr>
              <a:t>يقصد بذلك حسن اختيار المواقف والخبرات المتنوعة الممثلة التي تسجل قصصياً. </a:t>
            </a:r>
            <a:endParaRPr b="0" lang="en-US" sz="2800" spc="-1" strike="noStrike">
              <a:solidFill>
                <a:srgbClr val="000000"/>
              </a:solidFill>
              <a:latin typeface="Gill Sans MT"/>
            </a:endParaRPr>
          </a:p>
          <a:p>
            <a:pPr marL="272880" indent="-27288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التدريب : </a:t>
            </a:r>
            <a:r>
              <a:rPr b="0" lang="ar-SA" sz="2800" spc="-1" strike="noStrike">
                <a:solidFill>
                  <a:srgbClr val="000000"/>
                </a:solidFill>
                <a:latin typeface="Gill Sans MT"/>
              </a:rPr>
              <a:t>يجب أن يتم تدريب من يكتبون السجلات القصصية ضماناً للموضوعية وحسن الأداء. </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Bookman Old Style"/>
              </a:rPr>
              <a:t>إجراء السجل القصصي</a:t>
            </a:r>
            <a:endParaRPr b="0" lang="en-US" sz="3200" spc="-1" strike="noStrike">
              <a:solidFill>
                <a:srgbClr val="464653"/>
              </a:solidFill>
              <a:latin typeface="Bookman Old Style"/>
            </a:endParaRPr>
          </a:p>
        </p:txBody>
      </p:sp>
      <p:sp>
        <p:nvSpPr>
          <p:cNvPr id="468" name=""/>
          <p:cNvSpPr txBox="1"/>
          <p:nvPr/>
        </p:nvSpPr>
        <p:spPr>
          <a:xfrm>
            <a:off x="457200" y="1219320"/>
            <a:ext cx="8229600" cy="4937040"/>
          </a:xfrm>
          <a:prstGeom prst="rect">
            <a:avLst/>
          </a:prstGeom>
          <a:noFill/>
          <a:ln w="0">
            <a:noFill/>
          </a:ln>
        </p:spPr>
        <p:txBody>
          <a:bodyPr anchor="t">
            <a:normAutofit fontScale="96000"/>
          </a:bodyPr>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يتم إجراء لسجل القصصي في ضوء ما يلي: </a:t>
            </a:r>
            <a:endParaRPr b="0" lang="en-US" sz="28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التسجيل الوقتي</a:t>
            </a:r>
            <a:r>
              <a:rPr b="0" lang="ar-SA" sz="2400" spc="-1" strike="noStrike">
                <a:solidFill>
                  <a:srgbClr val="7030a0"/>
                </a:solidFill>
                <a:latin typeface="Gill Sans MT"/>
              </a:rPr>
              <a:t>: </a:t>
            </a:r>
            <a:r>
              <a:rPr b="0" lang="ar-SA" sz="2400" spc="-1" strike="noStrike">
                <a:solidFill>
                  <a:srgbClr val="000000"/>
                </a:solidFill>
                <a:latin typeface="Gill Sans MT"/>
              </a:rPr>
              <a:t>يكون تسجيل الواقعة السلوكية وقتياً وعقبها مباشرة، في أي وقت وفي أي مكان حدثت، ويحدد الزمان والمكان والموقف. </a:t>
            </a:r>
            <a:endParaRPr b="0" lang="en-US" sz="24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المحتوى</a:t>
            </a:r>
            <a:r>
              <a:rPr b="0" lang="ar-SA" sz="2400" spc="-1" strike="noStrike">
                <a:solidFill>
                  <a:srgbClr val="7030a0"/>
                </a:solidFill>
                <a:latin typeface="Gill Sans MT"/>
              </a:rPr>
              <a:t> : </a:t>
            </a:r>
            <a:r>
              <a:rPr b="0" lang="ar-SA" sz="2400" spc="-1" strike="noStrike">
                <a:solidFill>
                  <a:srgbClr val="000000"/>
                </a:solidFill>
                <a:latin typeface="Gill Sans MT"/>
              </a:rPr>
              <a:t>يحتوي السجل القصصي على وصف السلوك الذي حدث. إيجابية وسلبياته، ويتضمن تسجيلاً لفظياً دقيقة للواقعة، ويحدد الأشخاص والتفاعل الاجتماعي معهم، مع اقتباس حوارالعميل والذي يقال له خلال المشهد، وتسجيل التغيرات الجسمية والانفعالية ...إلخ. </a:t>
            </a:r>
            <a:endParaRPr b="0" lang="en-US" sz="24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الكتابة</a:t>
            </a:r>
            <a:r>
              <a:rPr b="0" lang="ar-SA" sz="2400" spc="-1" strike="noStrike">
                <a:solidFill>
                  <a:srgbClr val="7030a0"/>
                </a:solidFill>
                <a:latin typeface="Gill Sans MT"/>
              </a:rPr>
              <a:t> : </a:t>
            </a:r>
            <a:r>
              <a:rPr b="0" lang="ar-SA" sz="2400" spc="-1" strike="noStrike">
                <a:solidFill>
                  <a:srgbClr val="000000"/>
                </a:solidFill>
                <a:latin typeface="Gill Sans MT"/>
              </a:rPr>
              <a:t>تكون كتابة السجل القصصي مختصرة ومتعلقة بموقف واحد محدد في كل مرة. </a:t>
            </a:r>
            <a:endParaRPr b="0" lang="en-US" sz="24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التجميع</a:t>
            </a:r>
            <a:r>
              <a:rPr b="0" lang="ar-SA" sz="2400" spc="-1" strike="noStrike">
                <a:solidFill>
                  <a:srgbClr val="7030a0"/>
                </a:solidFill>
                <a:latin typeface="Gill Sans MT"/>
              </a:rPr>
              <a:t> : </a:t>
            </a:r>
            <a:r>
              <a:rPr b="0" lang="ar-SA" sz="2400" spc="-1" strike="noStrike">
                <a:solidFill>
                  <a:srgbClr val="000000"/>
                </a:solidFill>
                <a:latin typeface="Gill Sans MT"/>
              </a:rPr>
              <a:t>يمكن أن تستمر وتتجمع السجلات القصصية وتتنوع لتغطي عينة ممثلة من المواقف والأحداث في أماكن مختلفة ،وفي أوقات مختلفة، وتتجمع فتعطى صورة متكاملة وتطورية. </a:t>
            </a:r>
            <a:endParaRPr b="0" lang="en-US" sz="24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rPr>
              <a:t>التفسير</a:t>
            </a:r>
            <a:r>
              <a:rPr b="0" lang="ar-SA" sz="2400" spc="-1" strike="noStrike">
                <a:solidFill>
                  <a:srgbClr val="7030a0"/>
                </a:solidFill>
                <a:latin typeface="Gill Sans MT"/>
              </a:rPr>
              <a:t> : </a:t>
            </a:r>
            <a:r>
              <a:rPr b="0" lang="ar-SA" sz="2400" spc="-1" strike="noStrike">
                <a:solidFill>
                  <a:srgbClr val="000000"/>
                </a:solidFill>
                <a:latin typeface="Gill Sans MT"/>
              </a:rPr>
              <a:t>تفسر السجلات القصصية في ضوء بعضها وفي ضوء المعلومات المجموعة بالوسائل الأخرى. </a:t>
            </a:r>
            <a:endParaRPr b="0" lang="en-US" sz="2400" spc="-1" strike="noStrike">
              <a:solidFill>
                <a:srgbClr val="000000"/>
              </a:solidFill>
              <a:latin typeface="Gill Sans MT"/>
            </a:endParaRPr>
          </a:p>
          <a:p>
            <a:pPr marL="261720" indent="-2617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Bookman Old Style"/>
              </a:rPr>
              <a:t>السجل المجمع </a:t>
            </a:r>
            <a:endParaRPr b="0" lang="en-US" sz="4800" spc="-1" strike="noStrike">
              <a:solidFill>
                <a:srgbClr val="464653"/>
              </a:solidFill>
              <a:latin typeface="Bookman Old Style"/>
            </a:endParaRPr>
          </a:p>
        </p:txBody>
      </p:sp>
      <p:sp>
        <p:nvSpPr>
          <p:cNvPr id="470" name=""/>
          <p:cNvSpPr txBox="1"/>
          <p:nvPr/>
        </p:nvSpPr>
        <p:spPr>
          <a:xfrm>
            <a:off x="457200" y="1645920"/>
            <a:ext cx="8229600" cy="4830840"/>
          </a:xfrm>
          <a:prstGeom prst="rect">
            <a:avLst/>
          </a:prstGeom>
          <a:noFill/>
          <a:ln w="0">
            <a:noFill/>
          </a:ln>
        </p:spPr>
        <p:txBody>
          <a:bodyPr anchor="t">
            <a:normAutofit fontScale="93000"/>
          </a:bodyPr>
          <a:p>
            <a:pPr marL="253440" indent="-2534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هو سجل مكتوب أو محفوظ في الحاسب الآلي، يجمع ويلخص المعلومات التي جمعن عن العميل عن طريق كافة الوسائل، في شكل متجمع تتبقي أو تراكمي، وفي ترتيب زمني، وعلى مدى بضع سنوات قد تغطي تاريخ حياة الفرد الدراسية مثلاً. وهو بهذا يعتبر مخزناً أو أرشيف معلومات عن العميل يتضمن أكبر قدر من المعلومات في أقل حيز ممكن. </a:t>
            </a:r>
            <a:endParaRPr b="0" lang="en-US" sz="2800" spc="-1" strike="noStrike">
              <a:solidFill>
                <a:srgbClr val="000000"/>
              </a:solidFill>
              <a:latin typeface="Gill Sans MT"/>
            </a:endParaRPr>
          </a:p>
          <a:p>
            <a:pPr marL="253440" indent="-2534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شمل السجل المجمع كل المعلومات والبيانات التي جمعت عن العميل ومشكلته وبيئته، ويتضمن البيانات الشخصية العامة، والمعلومات عن شخصيته جسمياً وعقلياً واجتماعياً وانفعالياَ، وعن مشكلته، وجميع المعلومات العامة، وملخص السجلات القصصية، وملخصات التقارير، وملخص الحالة بصفة عامة . </a:t>
            </a:r>
            <a:endParaRPr b="0" lang="en-US" sz="28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685800"/>
            <a:ext cx="7477200" cy="53496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93958"/>
                </a:solidFill>
                <a:latin typeface="Bookman Old Style"/>
              </a:rPr>
              <a:t>تابع- الشروط العامة لوسائل جمع المعلومات </a:t>
            </a:r>
            <a:endParaRPr b="0" lang="en-US" sz="3200" spc="-1" strike="noStrike">
              <a:solidFill>
                <a:srgbClr val="464653"/>
              </a:solidFill>
              <a:latin typeface="Bookman Old Style"/>
            </a:endParaRPr>
          </a:p>
        </p:txBody>
      </p:sp>
      <p:sp>
        <p:nvSpPr>
          <p:cNvPr id="363" name=""/>
          <p:cNvSpPr txBox="1"/>
          <p:nvPr/>
        </p:nvSpPr>
        <p:spPr>
          <a:xfrm>
            <a:off x="263520" y="1600200"/>
            <a:ext cx="8423280" cy="4952880"/>
          </a:xfrm>
          <a:prstGeom prst="rect">
            <a:avLst/>
          </a:prstGeom>
          <a:no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الموضوعية : </a:t>
            </a:r>
            <a:r>
              <a:rPr b="0" lang="ar-SA" sz="2800" spc="-1" strike="noStrike">
                <a:solidFill>
                  <a:srgbClr val="000000"/>
                </a:solidFill>
                <a:latin typeface="Gill Sans MT"/>
              </a:rPr>
              <a:t>البعد عن الذاتية والآراء الشخصية بقدر الإمكان .</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المعيارية : </a:t>
            </a:r>
            <a:r>
              <a:rPr b="0" lang="ar-SA" sz="2800" spc="-1" strike="noStrike">
                <a:solidFill>
                  <a:srgbClr val="000000"/>
                </a:solidFill>
                <a:latin typeface="Gill Sans MT"/>
              </a:rPr>
              <a:t>أي الحكم على العميل في ضوء المعايير الخاصة بجنسه وعمره وثقافته .</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التسجيل : </a:t>
            </a:r>
            <a:r>
              <a:rPr b="0" lang="ar-SA" sz="2800" spc="-1" strike="noStrike">
                <a:solidFill>
                  <a:srgbClr val="000000"/>
                </a:solidFill>
                <a:latin typeface="Gill Sans MT"/>
              </a:rPr>
              <a:t>يجب تسجيل كل المعلومات التي يتم الحصول عليها حتى لا تكون عرضة للنسيان ويجب أن تسجل المعلومات عقب الحصول عليها مباشرة ، ويجب تحديد وتسجيل تواريخ المعلومات ، وذلك مهم لمعرفة مدى التقدم واتجاه التغير الذي يحدث.</a:t>
            </a:r>
            <a:endParaRPr b="0" lang="en-US" sz="28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خبرة :</a:t>
            </a:r>
            <a:r>
              <a:rPr b="0" lang="ar-SA" sz="2800" spc="-1" strike="noStrike">
                <a:solidFill>
                  <a:srgbClr val="ff0000"/>
                </a:solidFill>
                <a:latin typeface="Gill Sans MT"/>
              </a:rPr>
              <a:t> </a:t>
            </a:r>
            <a:r>
              <a:rPr b="0" lang="ar-SA" sz="2800" spc="-1" strike="noStrike">
                <a:solidFill>
                  <a:srgbClr val="000000"/>
                </a:solidFill>
                <a:latin typeface="Gill Sans MT"/>
              </a:rPr>
              <a:t>اي خبرة الأخصائي في استخدام وسائل جمع المعلومات وفي دراسة  السلوك البشري ، والتدريب العملي الكافى </a:t>
            </a:r>
            <a:r>
              <a:rPr b="0" lang="ar-SA"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السجل المجمع</a:t>
            </a:r>
            <a:endParaRPr b="0" lang="en-US" sz="3200" spc="-1" strike="noStrike">
              <a:solidFill>
                <a:srgbClr val="464653"/>
              </a:solidFill>
              <a:latin typeface="Bookman Old Style"/>
            </a:endParaRPr>
          </a:p>
        </p:txBody>
      </p:sp>
      <p:sp>
        <p:nvSpPr>
          <p:cNvPr id="472" name=""/>
          <p:cNvSpPr txBox="1"/>
          <p:nvPr/>
        </p:nvSpPr>
        <p:spPr>
          <a:xfrm>
            <a:off x="457200" y="1645920"/>
            <a:ext cx="8229600" cy="4830840"/>
          </a:xfrm>
          <a:prstGeom prst="rect">
            <a:avLst/>
          </a:prstGeom>
          <a:noFill/>
          <a:ln w="0">
            <a:noFill/>
          </a:ln>
        </p:spPr>
        <p:txBody>
          <a:bodyPr anchor="t">
            <a:normAutofit fontScale="96000"/>
          </a:bodyPr>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تضمن معلومات تاريخية وحاضرة بحيث تمكن من التنبؤ بالسلوك في المستقبل. ومن أهم ما يشتمل عليه السجل المجمع التوصيات، ويجب ألا يتضمن السجل المجمع المعلومات السرية التي تعطي أثناء الجلسات الإرشادية. ويفضل أن توضع صورة للعميل على السجل المجمع. </a:t>
            </a:r>
            <a:endParaRPr b="0" lang="en-US" sz="28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هذا ويجب عدم الخلط بين السجل المجمع وبين البطاقات المدرسية أو البطاقات الصحية وغيرها، وهي جميعاً تعتبر مصادر فرعية تصب في السجل المجمع. </a:t>
            </a:r>
            <a:endParaRPr b="0" lang="en-US" sz="2800" spc="-1" strike="noStrike">
              <a:solidFill>
                <a:srgbClr val="000000"/>
              </a:solidFill>
              <a:latin typeface="Gill Sans MT"/>
            </a:endParaRPr>
          </a:p>
          <a:p>
            <a:pPr marL="261720" indent="-26172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rPr>
              <a:t>انواع السجل المجمع</a:t>
            </a:r>
            <a:r>
              <a:rPr b="0" lang="ar-SA" sz="2800" spc="-1" strike="noStrike">
                <a:solidFill>
                  <a:srgbClr val="000000"/>
                </a:solidFill>
                <a:latin typeface="Gill Sans MT"/>
              </a:rPr>
              <a:t>: هناك نوعان هما : </a:t>
            </a:r>
            <a:endParaRPr b="0" lang="en-US" sz="28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السجل المجمع ذو الصفحة الواحدة: </a:t>
            </a:r>
            <a:r>
              <a:rPr b="0" lang="ar-SA" sz="2800" spc="-1" strike="noStrike">
                <a:solidFill>
                  <a:srgbClr val="000000"/>
                </a:solidFill>
                <a:latin typeface="Gill Sans MT"/>
              </a:rPr>
              <a:t>ويكون عادة بسيطاً يتضمن فقط المعلومات الأساسية الخاصة بالعميل. </a:t>
            </a:r>
            <a:endParaRPr b="0" lang="en-US" sz="28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السجل المجمع متعدد الصفحات: </a:t>
            </a:r>
            <a:r>
              <a:rPr b="0" lang="ar-SA" sz="2800" spc="-1" strike="noStrike">
                <a:solidFill>
                  <a:srgbClr val="000000"/>
                </a:solidFill>
                <a:latin typeface="Gill Sans MT"/>
              </a:rPr>
              <a:t>وقد يصل إلى حجم الكتيب الصغير. ويسمح بأن تضاف إلى صفحاته صفحات جديدة. وهذا يتضمن المعلومات المفصلة من جميع النواحي. </a:t>
            </a:r>
            <a:endParaRPr b="0" lang="en-US" sz="2800" spc="-1" strike="noStrike">
              <a:solidFill>
                <a:srgbClr val="000000"/>
              </a:solidFill>
              <a:latin typeface="Gill Sans MT"/>
            </a:endParaRPr>
          </a:p>
          <a:p>
            <a:pPr marL="261720" indent="-261720" algn="r" rtl="1">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Bookman Old Style"/>
              </a:rPr>
              <a:t>عوامل نجاح السجل المجمع</a:t>
            </a:r>
            <a:endParaRPr b="0" lang="en-US" sz="4800" spc="-1" strike="noStrike">
              <a:solidFill>
                <a:srgbClr val="464653"/>
              </a:solidFill>
              <a:latin typeface="Bookman Old Style"/>
            </a:endParaRPr>
          </a:p>
        </p:txBody>
      </p:sp>
      <p:sp>
        <p:nvSpPr>
          <p:cNvPr id="474"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a:t>
            </a:r>
            <a:r>
              <a:rPr b="0" lang="ar-SA" sz="2800" spc="-1" strike="noStrike">
                <a:solidFill>
                  <a:srgbClr val="000000"/>
                </a:solidFill>
                <a:latin typeface="Gill Sans MT"/>
              </a:rPr>
              <a:t>يجب أن تراعي الشروط الآتية: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شمول</a:t>
            </a:r>
            <a:r>
              <a:rPr b="0" lang="ar-SA" sz="2800" spc="-1" strike="noStrike">
                <a:solidFill>
                  <a:srgbClr val="ff0000"/>
                </a:solidFill>
                <a:latin typeface="Gill Sans MT"/>
              </a:rPr>
              <a:t> : </a:t>
            </a:r>
            <a:r>
              <a:rPr b="0" lang="ar-SA" sz="2800" spc="-1" strike="noStrike">
                <a:solidFill>
                  <a:srgbClr val="000000"/>
                </a:solidFill>
                <a:latin typeface="Gill Sans MT"/>
              </a:rPr>
              <a:t>يجب أن تكون المعلومات المتضمنة في السجل المجمع شاملة وباعتدال دون تفصيل مرهق وغير عملي.</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انتقاء</a:t>
            </a:r>
            <a:r>
              <a:rPr b="0" lang="ar-SA" sz="2800" spc="-1" strike="noStrike">
                <a:solidFill>
                  <a:srgbClr val="ff0000"/>
                </a:solidFill>
                <a:latin typeface="Gill Sans MT"/>
              </a:rPr>
              <a:t> : </a:t>
            </a:r>
            <a:r>
              <a:rPr b="0" lang="ar-SA" sz="2800" spc="-1" strike="noStrike">
                <a:solidFill>
                  <a:srgbClr val="000000"/>
                </a:solidFill>
                <a:latin typeface="Gill Sans MT"/>
              </a:rPr>
              <a:t>يجب أن تتناول المعلومات الخبرات الهامة التي تظهر الخصائص المميزة للعميل والتي تستأهل وضعها في السجل. </a:t>
            </a:r>
            <a:endParaRPr b="0" lang="en-US" sz="2800" spc="-1" strike="noStrike">
              <a:solidFill>
                <a:srgbClr val="000000"/>
              </a:solidFill>
              <a:latin typeface="Gill Sans MT"/>
            </a:endParaRPr>
          </a:p>
          <a:p>
            <a:pPr marL="253440" indent="-2534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استمرار</a:t>
            </a:r>
            <a:r>
              <a:rPr b="0" lang="ar-SA" sz="2800" spc="-1" strike="noStrike">
                <a:solidFill>
                  <a:srgbClr val="ff0000"/>
                </a:solidFill>
                <a:latin typeface="Gill Sans MT"/>
              </a:rPr>
              <a:t>: </a:t>
            </a:r>
            <a:r>
              <a:rPr b="0" lang="ar-SA" sz="2800" spc="-1" strike="noStrike">
                <a:solidFill>
                  <a:srgbClr val="000000"/>
                </a:solidFill>
                <a:latin typeface="Gill Sans MT"/>
              </a:rPr>
              <a:t>يجب أن تكون المعلومات مستمرة خالية من الثغرات والفجوات ومتجمعة ومرتبة ترتيباً زمنياً ومتصلة وحديثة. ويجب أن يوضع التاريخ عند كل إضافة بحيث يمكن الرجوع إليه للاستيضاح. ويجب أيضاً ذكر الوسائل والأدوات التي تم الحصول على المعلومات عن طريقها أو باستخدامها. كذلك يجب أن يحتوي السجل على مكان يسمح بإضافة معلومات جديدة مع تطور السجل المجمع زمنياً. </a:t>
            </a:r>
            <a:endParaRPr b="0" lang="en-US" sz="28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عوامل نجاح السجل المجمع</a:t>
            </a:r>
            <a:endParaRPr b="0" lang="en-US" sz="3200" spc="-1" strike="noStrike">
              <a:solidFill>
                <a:srgbClr val="464653"/>
              </a:solidFill>
              <a:latin typeface="Bookman Old Style"/>
            </a:endParaRPr>
          </a:p>
        </p:txBody>
      </p:sp>
      <p:sp>
        <p:nvSpPr>
          <p:cNvPr id="476" name=""/>
          <p:cNvSpPr txBox="1"/>
          <p:nvPr/>
        </p:nvSpPr>
        <p:spPr>
          <a:xfrm>
            <a:off x="457200" y="1219320"/>
            <a:ext cx="8229600" cy="4937040"/>
          </a:xfrm>
          <a:prstGeom prst="rect">
            <a:avLst/>
          </a:prstGeom>
          <a:noFill/>
          <a:ln w="0">
            <a:noFill/>
          </a:ln>
        </p:spPr>
        <p:txBody>
          <a:bodyPr anchor="t">
            <a:normAutofit fontScale="90000"/>
          </a:bodyPr>
          <a:p>
            <a:pPr marL="245520" indent="-2455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معيارية</a:t>
            </a:r>
            <a:r>
              <a:rPr b="0" lang="ar-SA" sz="2800" spc="-1" strike="noStrike">
                <a:solidFill>
                  <a:srgbClr val="ff0000"/>
                </a:solidFill>
                <a:latin typeface="Gill Sans MT"/>
              </a:rPr>
              <a:t> : </a:t>
            </a:r>
            <a:r>
              <a:rPr b="0" lang="ar-SA" sz="2800" spc="-1" strike="noStrike">
                <a:solidFill>
                  <a:srgbClr val="000000"/>
                </a:solidFill>
                <a:latin typeface="Gill Sans MT"/>
              </a:rPr>
              <a:t>تكون المعلومات التي تدون في السجلات معيارية ودقيقة في حدود اللغة المشتركة والمصطلح عليها علمياً. كذلك يجب أن يكون تقييم العميل في ضوء الجماعة الجنسية والعمرية والثقافية التي ينتمي إليها. </a:t>
            </a:r>
            <a:endParaRPr b="0" lang="en-US" sz="2800" spc="-1" strike="noStrike">
              <a:solidFill>
                <a:srgbClr val="000000"/>
              </a:solidFill>
              <a:latin typeface="Gill Sans MT"/>
            </a:endParaRPr>
          </a:p>
          <a:p>
            <a:pPr marL="245520" indent="-2455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بساطة</a:t>
            </a:r>
            <a:r>
              <a:rPr b="0" lang="ar-SA" sz="2800" spc="-1" strike="noStrike">
                <a:solidFill>
                  <a:srgbClr val="ff0000"/>
                </a:solidFill>
                <a:latin typeface="Gill Sans MT"/>
              </a:rPr>
              <a:t> : </a:t>
            </a:r>
            <a:r>
              <a:rPr b="0" lang="ar-SA" sz="2800" spc="-1" strike="noStrike">
                <a:solidFill>
                  <a:srgbClr val="000000"/>
                </a:solidFill>
                <a:latin typeface="Gill Sans MT"/>
              </a:rPr>
              <a:t>ان التعقيد وكثرة الفنيات وازدحام المعلومات قد يضر أكثر مما ينفع. وتؤدي بساطة السجل المجمع إلى سهولة استخدامه.</a:t>
            </a:r>
            <a:endParaRPr b="0" lang="en-US" sz="2800" spc="-1" strike="noStrike">
              <a:solidFill>
                <a:srgbClr val="000000"/>
              </a:solidFill>
              <a:latin typeface="Gill Sans MT"/>
            </a:endParaRPr>
          </a:p>
          <a:p>
            <a:pPr marL="245520" indent="-2455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تنظيم</a:t>
            </a:r>
            <a:r>
              <a:rPr b="0" lang="ar-SA" sz="2800" spc="-1" strike="noStrike">
                <a:solidFill>
                  <a:srgbClr val="ff0000"/>
                </a:solidFill>
                <a:latin typeface="Gill Sans MT"/>
              </a:rPr>
              <a:t> : </a:t>
            </a:r>
            <a:r>
              <a:rPr b="0" lang="ar-SA" sz="2800" spc="-1" strike="noStrike">
                <a:solidFill>
                  <a:srgbClr val="000000"/>
                </a:solidFill>
                <a:latin typeface="Gill Sans MT"/>
              </a:rPr>
              <a:t>اي توضع المعلومات في نظام خاص يضمن عدم اختلاط المعلومات الكثيرة التي يتضمنها السجل. </a:t>
            </a:r>
            <a:endParaRPr b="0" lang="en-US" sz="2800" spc="-1" strike="noStrike">
              <a:solidFill>
                <a:srgbClr val="000000"/>
              </a:solidFill>
              <a:latin typeface="Gill Sans MT"/>
            </a:endParaRPr>
          </a:p>
          <a:p>
            <a:pPr marL="245520" indent="-24552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حفظ</a:t>
            </a:r>
            <a:r>
              <a:rPr b="0" lang="ar-SA" sz="2800" spc="-1" strike="noStrike">
                <a:solidFill>
                  <a:srgbClr val="ff0000"/>
                </a:solidFill>
                <a:latin typeface="Gill Sans MT"/>
              </a:rPr>
              <a:t>: </a:t>
            </a:r>
            <a:r>
              <a:rPr b="0" lang="ar-SA" sz="2800" spc="-1" strike="noStrike">
                <a:solidFill>
                  <a:srgbClr val="000000"/>
                </a:solidFill>
                <a:latin typeface="Gill Sans MT"/>
              </a:rPr>
              <a:t>يجب حفظ السلاج المجمعة في مكان آمن، ويكون هناك أخصائي أمين مسئول عن حفظها. ويجب حفظها بطريقة تسهل الرجوع إليها في أي وقت بسرعة ويجب أن يكون السجل قابلاً للحفظ والتحمل فترات طويلة. ويمكن حفظ السلاجات على أجهزة الكمبيوتر، ولا يطلع عليها إلا الأخصائيون فقط. </a:t>
            </a:r>
            <a:endParaRPr b="0" lang="en-US" sz="2800" spc="-1" strike="noStrike">
              <a:solidFill>
                <a:srgbClr val="000000"/>
              </a:solidFill>
              <a:latin typeface="Gill Sans MT"/>
            </a:endParaRPr>
          </a:p>
          <a:p>
            <a:pPr marL="245520" indent="-2455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تابع- عوامل نجاح السجل المجمع</a:t>
            </a:r>
            <a:endParaRPr b="0" lang="en-US" sz="3200" spc="-1" strike="noStrike">
              <a:solidFill>
                <a:srgbClr val="464653"/>
              </a:solidFill>
              <a:latin typeface="Bookman Old Style"/>
            </a:endParaRPr>
          </a:p>
        </p:txBody>
      </p:sp>
      <p:sp>
        <p:nvSpPr>
          <p:cNvPr id="478"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سرية</a:t>
            </a:r>
            <a:r>
              <a:rPr b="0" lang="ar-SA" sz="2800" spc="-1" strike="noStrike">
                <a:solidFill>
                  <a:srgbClr val="ff0000"/>
                </a:solidFill>
                <a:latin typeface="Gill Sans MT"/>
              </a:rPr>
              <a:t>: </a:t>
            </a:r>
            <a:r>
              <a:rPr b="0" lang="ar-SA" sz="2800" spc="-1" strike="noStrike">
                <a:solidFill>
                  <a:srgbClr val="000000"/>
                </a:solidFill>
                <a:latin typeface="Gill Sans MT"/>
              </a:rPr>
              <a:t>تكون بعيدة عن أيدي غير المختصين وبحيث لا تستعمل المعلومات المحفوظة فيها إلا لأغراض الإرشاد.. أما ممن لهم الحق في معرفة ملعومات عن العميل من غير الأخصائيين كالوالدين مثلاً، فيمكن إعطاؤهم معلومات دون إطلاعهم على السجل خشية سوء الفهم أو سوء التفسير. وفي حالة حفظ السجلات المجمعة في الحاسب الآلي يجب استخدام ((كلمة مرور)) ضمانا للسرية. </a:t>
            </a:r>
            <a:endParaRPr b="0" lang="en-US" sz="28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المقابلة</a:t>
            </a:r>
            <a:endParaRPr b="0" lang="en-US" sz="3600" spc="-1" strike="noStrike">
              <a:solidFill>
                <a:srgbClr val="464653"/>
              </a:solidFill>
              <a:latin typeface="Bookman Old Style"/>
            </a:endParaRPr>
          </a:p>
        </p:txBody>
      </p:sp>
      <p:sp>
        <p:nvSpPr>
          <p:cNvPr id="365" name=""/>
          <p:cNvSpPr txBox="1"/>
          <p:nvPr/>
        </p:nvSpPr>
        <p:spPr>
          <a:xfrm>
            <a:off x="263520" y="1676520"/>
            <a:ext cx="8346960" cy="4952880"/>
          </a:xfrm>
          <a:prstGeom prst="rect">
            <a:avLst/>
          </a:prstGeom>
          <a:noFill/>
          <a:ln w="0">
            <a:noFill/>
          </a:ln>
        </p:spPr>
        <p:txBody>
          <a:bodyPr anchor="t">
            <a:normAutofit fontScale="93000"/>
          </a:bodyPr>
          <a:p>
            <a:pPr marL="253440" indent="-25344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قصود هنا (( مقابلة جمع المعلومات )) أي كوسيلة لجمع المعلومات . وتسمى أيضاً المقابلة الشخصية أو الإختبار الشخصي . </a:t>
            </a:r>
            <a:endParaRPr b="0" lang="en-US" sz="2800" spc="-1" strike="noStrike">
              <a:solidFill>
                <a:srgbClr val="000000"/>
              </a:solidFill>
              <a:latin typeface="Gill Sans MT"/>
            </a:endParaRPr>
          </a:p>
          <a:p>
            <a:pPr marL="253440" indent="-25344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المقابلة هي الوسيلة الأولى الأساسية في الإرشاد النفسي ، وهي كوسيلة لجمع المعلومات ليست قاصرة على الإرشاد والعلاج النفسي ، ولكنها وسيلة يستخدمها الأطباء والأخصائيون وأصحاب الأعمال والباحثون والصحفيون ...إلخ .</a:t>
            </a:r>
            <a:endParaRPr b="0" lang="en-US" sz="2800" spc="-1" strike="noStrike">
              <a:solidFill>
                <a:srgbClr val="000000"/>
              </a:solidFill>
              <a:latin typeface="Gill Sans MT"/>
            </a:endParaRPr>
          </a:p>
          <a:p>
            <a:pPr marL="253440" indent="-2534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ماهي المقابلة :</a:t>
            </a:r>
            <a:endParaRPr b="0" lang="en-US" sz="2800" spc="-1" strike="noStrike">
              <a:solidFill>
                <a:srgbClr val="000000"/>
              </a:solidFill>
              <a:latin typeface="Gill Sans MT"/>
            </a:endParaRPr>
          </a:p>
          <a:p>
            <a:pPr marL="253440" indent="-25344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قابلة علاقة إجتماعية مهنية دينامية وجهاً لوجه بين المرشد والعميل ، في جو نفسي آمن يسوده الثقة المتبادلة بين الطرفين ، بهدف جمع معلومات من أجل حل مشكلة . أى إنهاء علاقة فنية حساسة يتم فيها تفاعل إجتماعي هادف ، وتبادل معلومات وخبرات ومشاعر واتجاهات ، ويتم خلالها التساؤل عن كل شيء ، وهي نشاط مهنى هادف ، وليست محادثة عادية . </a:t>
            </a:r>
            <a:endParaRPr b="0" lang="en-US" sz="2800" spc="-1" strike="noStrike">
              <a:solidFill>
                <a:srgbClr val="000000"/>
              </a:solidFill>
              <a:latin typeface="Gill Sans MT"/>
            </a:endParaRPr>
          </a:p>
          <a:p>
            <a:pPr marL="253440" indent="-2534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3440" indent="-253440" algn="r" rtl="1">
              <a:lnSpc>
                <a:spcPct val="80000"/>
              </a:lnSpc>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53440" indent="-2534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Bookman Old Style"/>
              </a:rPr>
              <a:t>أنواع المقابلة </a:t>
            </a:r>
            <a:endParaRPr b="0" lang="en-US" sz="3600" spc="-1" strike="noStrike">
              <a:solidFill>
                <a:srgbClr val="464653"/>
              </a:solidFill>
              <a:latin typeface="Bookman Old Style"/>
            </a:endParaRPr>
          </a:p>
        </p:txBody>
      </p:sp>
      <p:sp>
        <p:nvSpPr>
          <p:cNvPr id="367" name=""/>
          <p:cNvSpPr txBox="1"/>
          <p:nvPr/>
        </p:nvSpPr>
        <p:spPr>
          <a:xfrm>
            <a:off x="263160" y="1447560"/>
            <a:ext cx="8575560" cy="5181480"/>
          </a:xfrm>
          <a:prstGeom prst="rect">
            <a:avLst/>
          </a:prstGeom>
          <a:noFill/>
          <a:ln w="0">
            <a:noFill/>
          </a:ln>
        </p:spPr>
        <p:txBody>
          <a:bodyPr anchor="t">
            <a:normAutofit fontScale="87000"/>
          </a:bodyPr>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rPr>
              <a:t>تقسم المقابلة بصفة عامة إلى أنواع عديدة نلخصها فيما يلي : </a:t>
            </a:r>
            <a:endParaRPr b="0" lang="en-US" sz="2800" spc="-1" strike="noStrike">
              <a:solidFill>
                <a:srgbClr val="000000"/>
              </a:solidFill>
              <a:latin typeface="Gill Sans MT"/>
            </a:endParaRPr>
          </a:p>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مبدئية : </a:t>
            </a:r>
            <a:r>
              <a:rPr b="0" lang="ar-SA" sz="2800" spc="-1" strike="noStrike">
                <a:solidFill>
                  <a:srgbClr val="000000"/>
                </a:solidFill>
                <a:latin typeface="Gill Sans MT"/>
              </a:rPr>
              <a:t>وهي أول مقابلة مع العميل . وفيها يتم التمهيد للمقابلات التالية . ويتم تحديد إمكانات المرشد ومايتوقعة المرشد والعميل كل من الآخر ، والتعريف بالخدمات الإرشادية ، والإلمام بتاريخ الحالة بصورة مبدئية عامة . </a:t>
            </a:r>
            <a:endParaRPr b="0" lang="en-US" sz="2800" spc="-1" strike="noStrike">
              <a:solidFill>
                <a:srgbClr val="000000"/>
              </a:solidFill>
              <a:latin typeface="Gill Sans MT"/>
            </a:endParaRPr>
          </a:p>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قصيرة : </a:t>
            </a:r>
            <a:r>
              <a:rPr b="0" lang="ar-SA" sz="2800" spc="-1" strike="noStrike">
                <a:solidFill>
                  <a:srgbClr val="000000"/>
                </a:solidFill>
                <a:latin typeface="Gill Sans MT"/>
              </a:rPr>
              <a:t>وهي مقابلة تستغرق مدة قصيرة عندما تكون المشكلة طارئة وسهلة وواضحة . وقد تكون مقدمة مقابلات أخرى أطول . وقد تكون كافية وخاصة في حالات المشكلات التي يستطيع العميل بنفسه أن يحلها . </a:t>
            </a:r>
            <a:endParaRPr b="0" lang="en-US" sz="2800" spc="-1" strike="noStrike">
              <a:solidFill>
                <a:srgbClr val="000000"/>
              </a:solidFill>
              <a:latin typeface="Gill Sans MT"/>
            </a:endParaRPr>
          </a:p>
          <a:p>
            <a:pPr marL="237240" indent="-2372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فردية : </a:t>
            </a:r>
            <a:r>
              <a:rPr b="0" lang="ar-SA" sz="2800" spc="-1" strike="noStrike">
                <a:solidFill>
                  <a:srgbClr val="000000"/>
                </a:solidFill>
                <a:latin typeface="Gill Sans MT"/>
              </a:rPr>
              <a:t>وهي التي تتم بين المرشد وبين عميل واحد فقط . </a:t>
            </a:r>
            <a:endParaRPr b="0" lang="en-US" sz="2800" spc="-1" strike="noStrike">
              <a:solidFill>
                <a:srgbClr val="000000"/>
              </a:solidFill>
              <a:latin typeface="Gill Sans MT"/>
            </a:endParaRPr>
          </a:p>
          <a:p>
            <a:pPr marL="237240" indent="-23724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جماعية : </a:t>
            </a:r>
            <a:r>
              <a:rPr b="0" lang="ar-SA" sz="2800" spc="-1" strike="noStrike">
                <a:solidFill>
                  <a:srgbClr val="000000"/>
                </a:solidFill>
                <a:latin typeface="Gill Sans MT"/>
              </a:rPr>
              <a:t>تتم مع جماعة من العملاء ، كما يحدث في جماعة من الطلاب الذين يعانون من مشكلات مشتركة فيما بينهم . </a:t>
            </a:r>
            <a:endParaRPr b="0" lang="en-US" sz="2800" spc="-1" strike="noStrike">
              <a:solidFill>
                <a:srgbClr val="000000"/>
              </a:solidFill>
              <a:latin typeface="Gill Sans MT"/>
            </a:endParaRPr>
          </a:p>
          <a:p>
            <a:pPr marL="237240" indent="-2372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marL="54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93958"/>
                </a:solidFill>
                <a:latin typeface="Bookman Old Style"/>
              </a:rPr>
              <a:t>تابع- أنواع المقابلة</a:t>
            </a:r>
            <a:endParaRPr b="0" lang="en-US" sz="3200" spc="-1" strike="noStrike">
              <a:solidFill>
                <a:srgbClr val="464653"/>
              </a:solidFill>
              <a:latin typeface="Bookman Old Style"/>
            </a:endParaRPr>
          </a:p>
        </p:txBody>
      </p:sp>
      <p:sp>
        <p:nvSpPr>
          <p:cNvPr id="369" name=""/>
          <p:cNvSpPr txBox="1"/>
          <p:nvPr/>
        </p:nvSpPr>
        <p:spPr>
          <a:xfrm>
            <a:off x="263520" y="1600200"/>
            <a:ext cx="8423280" cy="4495680"/>
          </a:xfrm>
          <a:prstGeom prst="rect">
            <a:avLst/>
          </a:prstGeom>
          <a:noFill/>
          <a:ln w="0">
            <a:noFill/>
          </a:ln>
        </p:spPr>
        <p:txBody>
          <a:bodyPr anchor="t">
            <a:normAutofit fontScale="95000"/>
          </a:bodyPr>
          <a:p>
            <a:pPr marL="259200" indent="-2592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مقيدة أو (المقابلة المقننة ) : </a:t>
            </a:r>
            <a:r>
              <a:rPr b="0" lang="ar-SA" sz="2800" spc="-1" strike="noStrike">
                <a:solidFill>
                  <a:srgbClr val="000000"/>
                </a:solidFill>
                <a:latin typeface="Gill Sans MT"/>
              </a:rPr>
              <a:t>وهي التي تكون مقيدة بأسئلة معينة محددة سلفاً يجيب عنها العميل ، وموضوعات محددة مسبقاً يتحدث فيها ، وتعليمات محددة يتبعها المرشد . </a:t>
            </a:r>
            <a:endParaRPr b="0" lang="en-US" sz="2800" spc="-1" strike="noStrike">
              <a:solidFill>
                <a:srgbClr val="000000"/>
              </a:solidFill>
              <a:latin typeface="Gill Sans MT"/>
            </a:endParaRPr>
          </a:p>
          <a:p>
            <a:pPr marL="259200" indent="-2592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ill Sans MT"/>
              </a:rPr>
              <a:t>ومن مزاياها </a:t>
            </a:r>
            <a:r>
              <a:rPr b="0" lang="ar-SA" sz="2800" spc="-1" strike="noStrike">
                <a:solidFill>
                  <a:srgbClr val="000000"/>
                </a:solidFill>
                <a:latin typeface="Gill Sans MT"/>
              </a:rPr>
              <a:t>ضمان الحصول على المعلومات الضرورية المطلوبة وتوفير الوقت، اما </a:t>
            </a:r>
            <a:r>
              <a:rPr b="0" lang="ar-SA" sz="2800" spc="-1" strike="noStrike">
                <a:solidFill>
                  <a:srgbClr val="ffff00"/>
                </a:solidFill>
                <a:latin typeface="Gill Sans MT"/>
              </a:rPr>
              <a:t>عيوبها</a:t>
            </a:r>
            <a:r>
              <a:rPr b="0" lang="ar-SA" sz="2800" spc="-1" strike="noStrike">
                <a:solidFill>
                  <a:srgbClr val="000000"/>
                </a:solidFill>
                <a:latin typeface="Gill Sans MT"/>
              </a:rPr>
              <a:t> الجمود ونقص المرونة وتفويت فرصة الحصول على معلومات يريد العميل سردها . </a:t>
            </a:r>
            <a:endParaRPr b="0" lang="en-US" sz="2800" spc="-1" strike="noStrike">
              <a:solidFill>
                <a:srgbClr val="000000"/>
              </a:solidFill>
              <a:latin typeface="Gill Sans MT"/>
            </a:endParaRPr>
          </a:p>
          <a:p>
            <a:pPr marL="259200" indent="-2592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ill Sans MT"/>
              </a:rPr>
              <a:t>المقابلة المطلقة أو ( الحرة) : </a:t>
            </a:r>
            <a:r>
              <a:rPr b="0" lang="ar-SA" sz="2800" spc="-1" strike="noStrike">
                <a:solidFill>
                  <a:srgbClr val="000000"/>
                </a:solidFill>
                <a:latin typeface="Gill Sans MT"/>
              </a:rPr>
              <a:t>تكون حرة ومرنة حيث تترك الحرية للعميل تتداعى أفكاره تداعياً حراً ويعرضها بطريقته الخاصة . ولا شك أن لكل ما يقوله العميل أهميته لأنه يعبر عن وجهة نظره . </a:t>
            </a:r>
            <a:r>
              <a:rPr b="0" lang="ar-SA" sz="2800" spc="-1" strike="noStrike">
                <a:solidFill>
                  <a:srgbClr val="ffff00"/>
                </a:solidFill>
                <a:latin typeface="Gill Sans MT"/>
              </a:rPr>
              <a:t>ومن مزاياها </a:t>
            </a:r>
            <a:r>
              <a:rPr b="0" lang="ar-SA" sz="2800" spc="-1" strike="noStrike">
                <a:solidFill>
                  <a:srgbClr val="000000"/>
                </a:solidFill>
                <a:latin typeface="Gill Sans MT"/>
              </a:rPr>
              <a:t>أنها تسير بطريقة تلقائية ، </a:t>
            </a:r>
            <a:r>
              <a:rPr b="0" lang="ar-SA" sz="2800" spc="-1" strike="noStrike">
                <a:solidFill>
                  <a:srgbClr val="ffff00"/>
                </a:solidFill>
                <a:latin typeface="Gill Sans MT"/>
              </a:rPr>
              <a:t>إلا أنها </a:t>
            </a:r>
            <a:r>
              <a:rPr b="0" lang="ar-SA" sz="2800" spc="-1" strike="noStrike">
                <a:solidFill>
                  <a:srgbClr val="000000"/>
                </a:solidFill>
                <a:latin typeface="Gill Sans MT"/>
              </a:rPr>
              <a:t>تتطلب خبرة خاصة وتدريباً طويلاً وإلا كانت مضيعة للوقت . </a:t>
            </a:r>
            <a:endParaRPr b="0" lang="en-US" sz="2800" spc="-1" strike="noStrike">
              <a:solidFill>
                <a:srgbClr val="000000"/>
              </a:solidFill>
              <a:latin typeface="Gill Sans MT"/>
            </a:endParaRPr>
          </a:p>
          <a:p>
            <a:pPr marL="259200" indent="-2592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15:22:25Z</dcterms:created>
  <dc:creator>Benq</dc:creator>
  <dc:description/>
  <dc:language>en-US</dc:language>
  <cp:lastModifiedBy>hams</cp:lastModifiedBy>
  <dcterms:modified xsi:type="dcterms:W3CDTF">2016-04-12T16:41:07Z</dcterms:modified>
  <cp:revision>113</cp:revision>
  <dc:subject/>
  <dc:title>الشريحة 1</dc:title>
</cp:coreProperties>
</file>