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481-C735-4DEA-A5F1-0F9A17BD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A48-CA3F-442B-834A-7BA68979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EAA-BAFC-4477-AE3A-68158D5D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514-A415-4770-ABF8-09433060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F2A-29E9-4F94-A80A-3FC8FB6D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D7C-965D-42B7-B1EA-E9CA5FFB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E65-5651-42CE-AB2D-EA590EB5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67B-D313-421E-8A72-364A2549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10C-08BA-498F-B041-53E7F84C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F5F-B147-43B7-AA1B-630274F3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BB8-DCE6-4BE1-8A66-389C9519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EEF-6E47-41F5-95F5-E2CA6036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A890-41E3-4910-A1D2-552A4BE5D6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000" y="345960"/>
            <a:ext cx="905508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s available 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121440" cy="676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ww.fac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ksu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du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a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khasay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280" y="230040"/>
            <a:ext cx="896472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10:59:28Z</dcterms:created>
  <dc:creator>خالد</dc:creator>
  <dc:description/>
  <dc:language>en-US</dc:language>
  <cp:lastModifiedBy>خالد</cp:lastModifiedBy>
  <dcterms:modified xsi:type="dcterms:W3CDTF">2014-06-17T11:05:11Z</dcterms:modified>
  <cp:revision>3</cp:revision>
  <dc:subject/>
  <dc:title>Slide 1</dc:title>
</cp:coreProperties>
</file>