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6AF-8889-4FC2-9EEA-108AC51F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9488-1F3F-4737-8761-6B7EDEEB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E02-8DE8-4E58-B4FE-2CA88E6D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AF2-4E09-49FD-B50A-09FF5FA4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E583-BFE4-446E-985A-BEF2B778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997-4532-47C2-8B47-CCE3F42F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67F-9A1B-44EB-8AE0-4FBF00F1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CB3-8F58-4184-BC3D-6DD8C7E1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E4E-56A9-4B02-95C2-1AA56353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08C-26D4-424F-902B-13E6D6E5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C74-F6E5-4A23-8F5C-65C86A05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454-2D64-410E-8796-49D5AFDA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C7EC-CB85-4230-8465-1741C4A499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000" y="345960"/>
            <a:ext cx="905508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s available 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121440" cy="676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ww.fac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ksu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du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a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khasay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280" y="230040"/>
            <a:ext cx="896472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10:59:28Z</dcterms:created>
  <dc:creator>خالد</dc:creator>
  <dc:description/>
  <dc:language>en-US</dc:language>
  <cp:lastModifiedBy>خالد</cp:lastModifiedBy>
  <dcterms:modified xsi:type="dcterms:W3CDTF">2014-06-17T11:05:11Z</dcterms:modified>
  <cp:revision>3</cp:revision>
  <dc:subject/>
  <dc:title>Slide 1</dc:title>
</cp:coreProperties>
</file>